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DD5-F258-43D5-8F53-6C1CC8B21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ACD-717A-4BD8-923E-ABB614CD9C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enproc.gov.ru/smi/news/genproc/news-120462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05BB-7E60-4895-86C0-D641DA3CDC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enproc.gov.ru/smi/news/genproc/news-1273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D074-52D4-4AA1-BF1D-1D6A8507B0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251F-D39B-474F-BAFF-61884E387AA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2AA8-4271-4A48-BC6C-CFE49D5693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З от 21.12.1996 N 159-ФЗ «О дополнительных гарантиях по социальной поддержке детей-сирот и детей, оставшихся без попечения родител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Г России по Брян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B7E5-23CD-4312-8575-3A3AC56DBB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ЛОТ – отдельный лот, не допускается включение продукции не из переч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ОНОЛОТ – только одно МНН 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  <a:ea typeface="Arial"/>
              </a:rPr>
              <a:t>(рекомендова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* - по перечню-2 – «1 лиш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8B0-09A4-42ED-AF64-DA19B11AB7C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ить с ориги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B84-B60E-4180-A8D2-B820F5B5FE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льс Бор - Цитата. «Эксперт — это человек, который совершил все возможные ошибки в некотором узком поле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5928-A2F3-4A11-A251-07BFBD4B05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chproc.ru/news/v-uk-rf-vvedena-statja-ustanavlivayusch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29B-1487-46E3-B32F-BDB5246F22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 6 и 7 статьи 110.2 Закона № 44-Ф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2.5 КоАП РФ - нарушение должностным лицом заказчика срока и порядка оплаты работ, предусмотренных контрактом - от тридцати тысяч до пятидесяти тысяч руб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A459-F3BD-4A12-A719-CCF3F65480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НН - Справочник международных непатентованных препар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A22E-EC44-486C-B3D5-56431A34A9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. 3 ПП РФ от 20.03.2017 № 315 «О внесении изменений в Правила осуществления контроля, предусмотренного частью 5 статьи 99 Федерального закона «О контрактной системе в сфере закупок товаров, работ, услуг для обеспечения государственных и муниципальных нуж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ВБ – государственный внебюджет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930-ADA6-4C90-989B-9624655AB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E21E-A559-42B6-AFF6-312C21C9BB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бличное акционерное общество "Сбербанк России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анк ВТБ (публичное акционерное общество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"Газпромбанк" (Акционерное общество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Российский Сельскохозяйственный банк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АЛЬФА-БАНК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"МОСКОВСКИЙ КРЕДИТНЫЙ БАНК" (публичное акционерное общество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бличное акционерное общество Банк "Финансовая Корпорация Открытие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Райффайзенбанк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бличное акционерное общество РОСБАНК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Всероссийский банк развития регионов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бличное акционерное общество "Промсвязьбанк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Акционерный Банк "РОССИЯ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БЛИЧНОЕ АКЦИОНЕРНОЕ ОБЩЕСТВО "БАНК "САНКТ-ПЕТЕРБУРГ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убличное акционерное общество "Совкомбанк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ОССИЙСКИЙ НАЦИОНАЛЬНЫЙ КОММЕРЧЕСКИЙ БАНК (публичное акционерное общество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ый коммерческий банк "РосЕвроБанк" (акционерное общество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ОТП Банк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кционерное общество "ЮниКредит Банк"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C32A-9F32-4E48-9CFF-2CCE7563F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доклада М. Евраева на 10-м Гайдаровском фору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1331-17FD-4CE1-87EE-39F0B262C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ЭП – квалифицированная электронная под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6DD5-C8FF-4F02-BE7F-57E00B30E5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Р - подсистема управления расход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B760-48A2-46BC-BA26-DEE8B3BD27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, я не против, если используете мои слайды. Просьба – не забывайте давать ссылки на автора и порт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tendery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важением, Кирилл Кузн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B4E6-059C-4B32-8D00-511BB600338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ставлении описа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а закуп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оказа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ребов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словных обозначений и термин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х характеристи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х характеристик (потребительских свойств) ТРУ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х характеристик объекта закуп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редусмо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ми регламента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нятыми в соответствии с законодательством РФ о техническом регулир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ми, разрабатываемыми и применяемыми 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ой системе стандартиза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нятыми в соответствии с законодательством РФ о стандартиз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ных требований</a:t>
            </a:r>
            <a:r>
              <a:rPr b="0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, связанных с определением соответствия поставляемого товара, выполняемой работы, оказываемой услуги потребностям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чико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пользуютс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е в соответствии с законодательством РФ 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м регулировании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ации показател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, условные обозначения и терминолог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документации о закупке должно содержать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необходимости использования други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телей, требований, условных обозначений и термин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FA4-AE29-4504-A053-6BA113C589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онкурентные закупки в электронной форме - с 1 января 201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закуп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44 ст. 112 Закона № 44-Ф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AD8E-DFC5-4946-8AEC-B6F548FE59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1318-5E30-45DC-9255-61CECE8483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я является укрупн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включения позиции в кат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5.09.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 позиции КТ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39.16.000-00000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 по ОКПД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39.16.000: Горох, консервированный без уксуса или уксусной кислоты (кроме готовых блюд из овощ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товара, работы, усл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х, консервированный без уксуса или уксусной кислоты (кроме готовых блюд из овощ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(количество товара, объем работы, услуги по ОКЕИ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начала обязательного применения позиции катал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10.20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кончания применения позиции катал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ро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E41B-F47F-4C9B-B56B-04C2D8B44A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9C91-64E8-4392-A234-2A7A528737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genproc.gov.ru/smi/news/genproc/news-116810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6585-5461-475B-93EF-B630A0F49B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№ 0346300028818000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6B47-2409-4F8F-8251-BF93B5931B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87EC-3150-436C-B134-75A0E7A260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2E7E-7840-4B50-86AB-F5C8110425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тайского республиканского  УФАС России от 08.08.2017 № 140-К/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F1C-CCAE-4FEE-9A52-25D860F87E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1DDF-0E2A-4F58-A64E-212C771EC5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 проведении конкурса или аукциона НМЦК составляет 15 млн. руб. и менее и участником закупки, с которым заключается контракт, предложена цена контракта, которая на 25% и более ниже НМЦК, контракт заключается после предоставления полуторного обеспечения, или информации, подтверждающей добросовестно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 одновременным предоставлением таким участником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AF23-A454-46C2-8A3B-A4245F31BC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С – добровольное медицинское страхование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BCB-6453-4607-AD4C-327C60140B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С – добровольное медицинское страхование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5BBF-66E6-4050-85F4-29A76533996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79B-2C12-4407-9C2B-6C281214A07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81F-6FE4-4DC1-89B9-55A9C37B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3D1-7850-4440-A9A4-1CC0E48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D76-0E7D-4670-80E2-F373941A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587-6157-47C3-98AE-421F855D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4DE-AE13-4DDB-B8EB-9B5C37F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4C8-9666-43B8-A9A7-2BA5154F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58D-5D18-4CFC-82F4-B979DEE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C18-B503-406A-A5FA-A5E30FA7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380-8E95-43D0-925A-C47815CB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5F0-DE3B-4FB5-ABBB-9EF4DC5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4AE-08D6-4D57-8069-61157152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205-FFD7-4A36-9D06-258798AA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A0B-4415-41E0-A53A-BCCE11157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olutions.fas.gov.ru/to/bryanskoe-ufas-rossii/286-6fdee6c9-5dde-4b52-b3f8-db31d9be9467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zakupki.gov.ru/epz/main/public/download/downloadDocument.html?id=28515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ortal.egisz.rosminzdrav.ru/materials/829" TargetMode="External"/><Relationship Id="rId2" Type="http://schemas.openxmlformats.org/officeDocument/2006/relationships/hyperlink" Target="http://portal.egisz.rosminzdrav.ru/materials/829" TargetMode="External"/><Relationship Id="rId3" Type="http://schemas.openxmlformats.org/officeDocument/2006/relationships/hyperlink" Target="http://portal.egisz.rosminzdrav.ru/materials/829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zakupki.gov.ru/epz/complaint/card/documents.html?id=1875164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udget.minfin.ru/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50920" y="2708280"/>
            <a:ext cx="86421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180000" tIns="36000" bIns="360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закон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№ 44-ФЗ от 05.04.2013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«О контрактной систем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DROPBOX\home\Roseltorg\Полиграфия\Таблички-логотип.png"/>
          <p:cNvPicPr/>
          <p:nvPr/>
        </p:nvPicPr>
        <p:blipFill>
          <a:blip r:embed="rId1"/>
          <a:stretch/>
        </p:blipFill>
        <p:spPr>
          <a:xfrm>
            <a:off x="3083040" y="1028880"/>
            <a:ext cx="2857320" cy="88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9240" y="0"/>
            <a:ext cx="5486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ЬЕ СИРОТАМ ЗП и ЗПЭФ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4560" y="836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ФЗ от 29.07.2018 N 267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01.01.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е основание для запроса пред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закупок жилых помещений для детей-сирот и детей, оставшихся без попечения родителей, лиц из числа детей-сирот и детей, оставшихся без попечения родителей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физических 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вляющихся собственниками этих жилых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П - Право заказчика, но не обяз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П – только у физ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качественный крит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63356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ЕМКА И ЭКСПЕРТИЗА. ОТВЕТСТВЕННОСТЬ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З от 3 июля 2016 г. № 318-ФЗ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22320" y="1052640"/>
          <a:ext cx="9072360" cy="1938240"/>
        </p:xfrm>
        <a:graphic>
          <a:graphicData uri="http://schemas.openxmlformats.org/drawingml/2006/table">
            <a:tbl>
              <a:tblPr/>
              <a:tblGrid>
                <a:gridCol w="995400"/>
                <a:gridCol w="5875200"/>
                <a:gridCol w="1338120"/>
                <a:gridCol w="863640"/>
              </a:tblGrid>
              <a:tr h="195840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.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7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блюдение требо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одательства РФ и НПА РФ о КС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проведении экспертиз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ставленного товара, результатов выполненной работы, оказанной услуги или отдельных этапов исполнения контракта в случае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соответствии с законодательством РФ о КС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проведению такой экспертиз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азчик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н привлечь экспертов, экспертные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ное лицо заказч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 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28440" y="2924280"/>
          <a:ext cx="9072720" cy="1377720"/>
        </p:xfrm>
        <a:graphic>
          <a:graphicData uri="http://schemas.openxmlformats.org/drawingml/2006/table">
            <a:tbl>
              <a:tblPr/>
              <a:tblGrid>
                <a:gridCol w="995400"/>
                <a:gridCol w="5875560"/>
                <a:gridCol w="1338120"/>
                <a:gridCol w="863640"/>
              </a:tblGrid>
              <a:tr h="139896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.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7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оставление документов о приемк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РУ или отдельных этапов поставки товара, выполнения работы, оказания услуги либо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правление мотивированного отказа от подписания таких документов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 отказа от их подпис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ное лицо заказч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 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42840" y="4292640"/>
          <a:ext cx="9074160" cy="2219400"/>
        </p:xfrm>
        <a:graphic>
          <a:graphicData uri="http://schemas.openxmlformats.org/drawingml/2006/table">
            <a:tbl>
              <a:tblPr/>
              <a:tblGrid>
                <a:gridCol w="995400"/>
                <a:gridCol w="5877000"/>
                <a:gridCol w="1338120"/>
                <a:gridCol w="863640"/>
              </a:tblGrid>
              <a:tr h="2238120"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.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7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ка ТРУ или отдельного этапа исполнения контракта в случае несоответствия этих ТРУ либо результатов выполненных работ условиям контракта, есл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ое несоответстви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странено поставщиком (подрядчиком, исполнителем)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ривело к дополнительному расходова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 бюджет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уменьшению количества ТРУ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обеспечения государственных и муниципальных нуж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ное лицо заказч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 000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6840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ЕРТИЗА ПРИ ПРИЕМКЕ ОБЯЗАТЕЛЬНА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0" name="Прямоугольник 3"/>
          <p:cNvSpPr/>
          <p:nvPr/>
        </p:nvSpPr>
        <p:spPr>
          <a:xfrm>
            <a:off x="1000080" y="3070080"/>
            <a:ext cx="7201080" cy="6480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А ПРИ ПРИЕМ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Стрелка вниз 4"/>
          <p:cNvSpPr/>
          <p:nvPr/>
        </p:nvSpPr>
        <p:spPr>
          <a:xfrm>
            <a:off x="2295360" y="4005360"/>
            <a:ext cx="1008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5"/>
          <p:cNvSpPr/>
          <p:nvPr/>
        </p:nvSpPr>
        <p:spPr>
          <a:xfrm>
            <a:off x="1000080" y="5013360"/>
            <a:ext cx="3384720" cy="1295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и заказ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Стрелка вниз 7"/>
          <p:cNvSpPr/>
          <p:nvPr/>
        </p:nvSpPr>
        <p:spPr>
          <a:xfrm>
            <a:off x="6111720" y="4005360"/>
            <a:ext cx="1008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8"/>
          <p:cNvSpPr/>
          <p:nvPr/>
        </p:nvSpPr>
        <p:spPr>
          <a:xfrm>
            <a:off x="4816440" y="5013360"/>
            <a:ext cx="3384720" cy="1295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ы и эксперт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9"/>
          <p:cNvSpPr/>
          <p:nvPr/>
        </p:nvSpPr>
        <p:spPr>
          <a:xfrm>
            <a:off x="1000080" y="907920"/>
            <a:ext cx="7201080" cy="649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результатов, предусмотренных контрактом, в части их соответствия условиям контра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Стрелка вниз 10"/>
          <p:cNvSpPr/>
          <p:nvPr/>
        </p:nvSpPr>
        <p:spPr>
          <a:xfrm>
            <a:off x="3844800" y="1751040"/>
            <a:ext cx="1511280" cy="93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11"/>
          <p:cNvSpPr/>
          <p:nvPr/>
        </p:nvSpPr>
        <p:spPr>
          <a:xfrm>
            <a:off x="3498120" y="26877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КАЗЧИК ОБЯ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6200" y="0"/>
            <a:ext cx="7417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 ЭКСПЕРТИЗЫ. СТРУКТУР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Прямоугольник 3"/>
          <p:cNvSpPr/>
          <p:nvPr/>
        </p:nvSpPr>
        <p:spPr>
          <a:xfrm>
            <a:off x="179280" y="1006560"/>
            <a:ext cx="8856720" cy="1414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Н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Овал 4"/>
          <p:cNvSpPr/>
          <p:nvPr/>
        </p:nvSpPr>
        <p:spPr>
          <a:xfrm>
            <a:off x="108000" y="976320"/>
            <a:ext cx="358560" cy="36036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5"/>
          <p:cNvSpPr/>
          <p:nvPr/>
        </p:nvSpPr>
        <p:spPr>
          <a:xfrm>
            <a:off x="179280" y="2774880"/>
            <a:ext cx="8856720" cy="1414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ТЕЛЬ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Овал 6"/>
          <p:cNvSpPr/>
          <p:nvPr/>
        </p:nvSpPr>
        <p:spPr>
          <a:xfrm>
            <a:off x="108000" y="2744640"/>
            <a:ext cx="358560" cy="36036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оугольник 7"/>
          <p:cNvSpPr/>
          <p:nvPr/>
        </p:nvSpPr>
        <p:spPr>
          <a:xfrm>
            <a:off x="179280" y="4576680"/>
            <a:ext cx="8856720" cy="1414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Овал 8"/>
          <p:cNvSpPr/>
          <p:nvPr/>
        </p:nvSpPr>
        <p:spPr>
          <a:xfrm>
            <a:off x="108000" y="4546440"/>
            <a:ext cx="358560" cy="36036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-181080" y="39240"/>
            <a:ext cx="77551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Е СЛОЖНОСТ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4560" y="6919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акт не всегда обязывает поставщика содействовать экспе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 сам определяет объем и ход экспертизы, рассчитывает НМЦК (вопрос – ценовой порог для оплаты эксперти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лата – из средств на закупку (Письмо Минфина России от 6 июня 2014 г. № 02-05-10/27547 «О расходах на оказание услуг по проведению экспертизы результатов исполнения контракт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 не обязан следовать заключению эксперта (кроме одностороннего отказа от исполнения контракта ч.11 ст.95 44-ФЗ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ость эксперта при несогласии заказч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6985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БРОСОВЕСТНАЯ ПРИЕМК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6120" y="84096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06.2017 Прокуратура Белохолуницкого района Кир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в эксплуатацию выявлены существенные дефекты в работе очистных сооружений. Принятые и построенные очистные сооружения так и не вышли на полную мощность, уровень очистки остался низким, и по содержанию вредных веществ стоки превышают допустимые н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бросовестная приемка объекта и непринятие надлежащих мер со стороны должностных лиц учреждения — заказчика к принуждению подрядчика к устранению допущенных дефектов явилось причиной к проведению новых ремонтных работ, стоимость которых составляет более 1,9 млн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материалам прокурорской проверки следственными органами возбуждено уголовное дело по ч. 1 ст. 285 УК РФ (злоупотребление должностными полномочи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УРА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ndery.ru/forum/viewtopic.php?f=521610&amp;t=20423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81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4560" y="0"/>
            <a:ext cx="6553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. ЗАМЕНА МАТЕРИАЛОВ, ФИКТИВНАЯ ПРИЕМК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4560" y="7732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а городского поселения заключил с подрядной организацией муниципальный контракт на ремонт дороги на сумму более 400 тыс.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работ подрядчик использова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, не предусмотренные контрактами и имеющие меньшую стоим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ертизу каче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ных работ чиновни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ов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зреваемый, зная о допущенных подрядчиком нарушениях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 в акт приемки выполненных работ ложные све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 исполнении условий контракта, что повле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обоснованную оплат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буждено уголовное дело в отношении главы поселения по ч. 1 ст. 292 УК РФ (служебный подло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УРА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ndery.ru/forum/viewtopic.php?f=521610&amp;t=204345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86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6" dur="indefinite" restart="never" nodeType="tmRoot">
          <p:childTnLst>
            <p:seq>
              <p:cTn id="1927" dur="indefinite" nodeType="mainSeq">
                <p:childTnLst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23"/>
          <p:cNvSpPr/>
          <p:nvPr/>
        </p:nvSpPr>
        <p:spPr>
          <a:xfrm>
            <a:off x="239760" y="1268280"/>
            <a:ext cx="8602560" cy="21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Учебный центр АО «ЕЭТП» функционирует с ноября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Постоянно действующие подразделения работают в Москве, Санкт-Петербурге, Чебоксарах, Уфе, Ставрополе, Краснодаре, Калининграде, Хабаровске, Волгограде, Липецке, Новосибирске, Нижнем Новгороде, Екатеринбурге и других гор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Arial Narro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Скругленный прямоугольник 11"/>
          <p:cNvSpPr/>
          <p:nvPr/>
        </p:nvSpPr>
        <p:spPr>
          <a:xfrm>
            <a:off x="826920" y="5445000"/>
            <a:ext cx="7058160" cy="711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6800" bIns="1080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"/>
                <a:ea typeface="Arial"/>
              </a:rPr>
              <a:t>По данным на январь 2019 г. учебный центр АО «ЕЭТП» обучил более 3000 тыс. слуш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2"/>
          <p:cNvSpPr/>
          <p:nvPr/>
        </p:nvSpPr>
        <p:spPr>
          <a:xfrm>
            <a:off x="2484360" y="2637000"/>
            <a:ext cx="332748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Обучение проходит в фор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Arial Narro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семина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Arial Narro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практических тренинг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Arial Narro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вебина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Arial Narro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практических конферен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80000"/>
              <a:buFont typeface="Arial Narrow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  <a:ea typeface="Arial"/>
              </a:rPr>
              <a:t>дистанционных курсов повышения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1657080" cy="17114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" descr="C:\Users\Roseltorg55\Desktop\unnamed.png"/>
          <p:cNvPicPr/>
          <p:nvPr/>
        </p:nvPicPr>
        <p:blipFill>
          <a:blip r:embed="rId2"/>
          <a:stretch/>
        </p:blipFill>
        <p:spPr>
          <a:xfrm>
            <a:off x="5940360" y="3141720"/>
            <a:ext cx="2735280" cy="1752480"/>
          </a:xfrm>
          <a:prstGeom prst="rect">
            <a:avLst/>
          </a:prstGeom>
          <a:ln w="0">
            <a:noFill/>
          </a:ln>
        </p:spPr>
      </p:pic>
      <p:sp>
        <p:nvSpPr>
          <p:cNvPr id="792" name="Прямоугольник 4"/>
          <p:cNvSpPr/>
          <p:nvPr/>
        </p:nvSpPr>
        <p:spPr>
          <a:xfrm>
            <a:off x="195120" y="260280"/>
            <a:ext cx="29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ебный центр АО «ЕЭТП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5"/>
          <p:cNvSpPr/>
          <p:nvPr/>
        </p:nvSpPr>
        <p:spPr>
          <a:xfrm>
            <a:off x="324000" y="2997360"/>
            <a:ext cx="864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180000" tIns="36000" bIns="360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E:\DROPBOX\home\Roseltorg\Полиграфия\Таблички-логотип.png"/>
          <p:cNvPicPr/>
          <p:nvPr/>
        </p:nvPicPr>
        <p:blipFill>
          <a:blip r:embed="rId1"/>
          <a:stretch/>
        </p:blipFill>
        <p:spPr>
          <a:xfrm>
            <a:off x="3083040" y="1028880"/>
            <a:ext cx="2857320" cy="887400"/>
          </a:xfrm>
          <a:prstGeom prst="rect">
            <a:avLst/>
          </a:prstGeom>
          <a:ln w="0">
            <a:noFill/>
          </a:ln>
        </p:spPr>
      </p:pic>
      <p:sp>
        <p:nvSpPr>
          <p:cNvPr id="795" name="Прямоугольник 4"/>
          <p:cNvSpPr/>
          <p:nvPr/>
        </p:nvSpPr>
        <p:spPr>
          <a:xfrm>
            <a:off x="755640" y="4802040"/>
            <a:ext cx="8031240" cy="1755000"/>
          </a:xfrm>
          <a:prstGeom prst="rect">
            <a:avLst/>
          </a:prstGeom>
          <a:solidFill>
            <a:srgbClr val="80a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8(495)276-16-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Narrow"/>
              </a:rPr>
              <a:t>Общие вопросы 24/7: центр поддержки пользовател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cpp.roseltorg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D:\RET\МАТЕРИАЛЫ\2016\новый дизайн\иконки\иконки\Иконки-50.png"/>
          <p:cNvPicPr/>
          <p:nvPr/>
        </p:nvPicPr>
        <p:blipFill>
          <a:blip r:embed="rId2"/>
          <a:stretch/>
        </p:blipFill>
        <p:spPr>
          <a:xfrm>
            <a:off x="2124000" y="4724280"/>
            <a:ext cx="951120" cy="95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5905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ОЕ ПОМЕЩЕНИЕ ДЛЯ ДЕТЕЙ СИРОТ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560" y="86148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лоб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 установлено требование о расположении квартиры в многоквартирном доме + требования к отделке приобретаемых жилых помещений ограничивающие количество участников зак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Ф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й к отделке приобретаемого жилого помещения не противоречат положениям законодательства, определяющих право заказчика описать требования к приобретаемому товару исходя из своей 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возможность предложения иных жилых помещений в полной мере, отвечающих потребности заказчика и положениям ФЗ от 21.12.1996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ключены требования о предоставлении во второй части заявки документов, подтверждающих регистрацию права собственности жилым помещением, соответствующие полномочия представителя заявителя (если с заявлением обращается его представите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об обеспечении охраны квартиры до момента передачи ее покупателю, предполагает наличие у участника закупки дополнительных финансовых, трудовых или иных ресурсов - нарушает права и законные интересы участников зак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авомерно установлено требование о предоставлении в рамках исполнения контракта покупателю технического и кадастрового паспорта на жилое помещение – по ГК РФ (ч. 2 ст. 456) - одновременно с передачей ве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БРЯНСКОГО У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дело №286 от 05.12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5832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ИМПОРТОЗАМЕЩЕНИЕ</a:t>
            </a:r>
            <a:br>
              <a:rPr sz="1800"/>
            </a:b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ст. 14 44-ФЗ 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395280" y="1341360"/>
            <a:ext cx="8342280" cy="9763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ОГО ПОСТАВЩИКА (ПОДРЯДЧИКА, ИСПОЛН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"/>
          <p:cNvSpPr/>
          <p:nvPr/>
        </p:nvSpPr>
        <p:spPr>
          <a:xfrm>
            <a:off x="395280" y="3149640"/>
            <a:ext cx="4094280" cy="6523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ТЕЛЬСТВО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трелка вниз 6"/>
          <p:cNvSpPr/>
          <p:nvPr/>
        </p:nvSpPr>
        <p:spPr>
          <a:xfrm>
            <a:off x="1042920" y="3959280"/>
            <a:ext cx="7207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трелка вниз 7"/>
          <p:cNvSpPr/>
          <p:nvPr/>
        </p:nvSpPr>
        <p:spPr>
          <a:xfrm>
            <a:off x="6218280" y="3959280"/>
            <a:ext cx="7189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395280" y="4633920"/>
            <a:ext cx="2016000" cy="9795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ет на д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трелка вниз 11"/>
          <p:cNvSpPr/>
          <p:nvPr/>
        </p:nvSpPr>
        <p:spPr>
          <a:xfrm>
            <a:off x="2081160" y="2459160"/>
            <a:ext cx="72072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6"/>
          <p:cNvSpPr/>
          <p:nvPr/>
        </p:nvSpPr>
        <p:spPr>
          <a:xfrm>
            <a:off x="2473200" y="4633920"/>
            <a:ext cx="2016360" cy="9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е до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4643280" y="3149640"/>
            <a:ext cx="4094280" cy="6523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низ 18"/>
          <p:cNvSpPr/>
          <p:nvPr/>
        </p:nvSpPr>
        <p:spPr>
          <a:xfrm>
            <a:off x="6330960" y="2459160"/>
            <a:ext cx="720720" cy="57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низ 19"/>
          <p:cNvSpPr/>
          <p:nvPr/>
        </p:nvSpPr>
        <p:spPr>
          <a:xfrm>
            <a:off x="3121200" y="3959280"/>
            <a:ext cx="72072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4"/>
          <p:cNvSpPr/>
          <p:nvPr/>
        </p:nvSpPr>
        <p:spPr>
          <a:xfrm>
            <a:off x="4656240" y="4633920"/>
            <a:ext cx="4093920" cy="97956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допуска иностранных Т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-126н МФ РФ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с 05.11.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Овал 4"/>
          <p:cNvSpPr/>
          <p:nvPr/>
        </p:nvSpPr>
        <p:spPr>
          <a:xfrm>
            <a:off x="127080" y="762120"/>
            <a:ext cx="693720" cy="36648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18640" y="0"/>
            <a:ext cx="6705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П РФ ПО ИМПОРТОЗАМЕЩЕНИЮ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536400" y="762120"/>
            <a:ext cx="1770120" cy="3664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ОВАРЫ ЛЕГКОЙ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2381400" y="762120"/>
            <a:ext cx="115236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8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79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3605040" y="762120"/>
            <a:ext cx="2448000" cy="3664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Т ПО ПЕРЕЧН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ечни разны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Ф и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6127920" y="762120"/>
            <a:ext cx="287784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екларация о стране происхождения товаров, материалов и полуфабрик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8"/>
          <p:cNvSpPr/>
          <p:nvPr/>
        </p:nvSpPr>
        <p:spPr>
          <a:xfrm>
            <a:off x="128520" y="1273320"/>
            <a:ext cx="693720" cy="36648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538200" y="1273320"/>
            <a:ext cx="1770120" cy="3664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МАШИНОСТРО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2382840" y="1273320"/>
            <a:ext cx="115236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07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1"/>
          <p:cNvSpPr/>
          <p:nvPr/>
        </p:nvSpPr>
        <p:spPr>
          <a:xfrm>
            <a:off x="3606840" y="1273320"/>
            <a:ext cx="2448000" cy="3664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Т ПО ПЕРЕЧН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2"/>
          <p:cNvSpPr/>
          <p:nvPr/>
        </p:nvSpPr>
        <p:spPr>
          <a:xfrm>
            <a:off x="6129360" y="1273320"/>
            <a:ext cx="287820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-1, ПРИКАЗ ТПП 15.08.14 №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 экспертизы ТПП, СП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3"/>
          <p:cNvSpPr/>
          <p:nvPr/>
        </p:nvSpPr>
        <p:spPr>
          <a:xfrm>
            <a:off x="127080" y="1770120"/>
            <a:ext cx="693720" cy="36648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4"/>
          <p:cNvSpPr/>
          <p:nvPr/>
        </p:nvSpPr>
        <p:spPr>
          <a:xfrm>
            <a:off x="536400" y="1770120"/>
            <a:ext cx="1770120" cy="3664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ИЗД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5"/>
          <p:cNvSpPr/>
          <p:nvPr/>
        </p:nvSpPr>
        <p:spPr>
          <a:xfrm>
            <a:off x="2381400" y="1770120"/>
            <a:ext cx="115236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5.02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605040" y="1770120"/>
            <a:ext cx="1511640" cy="366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РЕТИЙ –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ВТОРОЙ -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7"/>
          <p:cNvSpPr/>
          <p:nvPr/>
        </p:nvSpPr>
        <p:spPr>
          <a:xfrm>
            <a:off x="6127920" y="1770120"/>
            <a:ext cx="287784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-1, ПРИКАЗ ТПП РФ 10.04.15 №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по перечню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18"/>
          <p:cNvSpPr/>
          <p:nvPr/>
        </p:nvSpPr>
        <p:spPr>
          <a:xfrm>
            <a:off x="128520" y="2274840"/>
            <a:ext cx="693720" cy="36684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9"/>
          <p:cNvSpPr/>
          <p:nvPr/>
        </p:nvSpPr>
        <p:spPr>
          <a:xfrm>
            <a:off x="538200" y="2274840"/>
            <a:ext cx="1770120" cy="3668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ЛЕКАРСТВЕННЫЕ ПРЕПАРАТЫ ЖНВЛ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2"/>
          <p:cNvSpPr/>
          <p:nvPr/>
        </p:nvSpPr>
        <p:spPr>
          <a:xfrm>
            <a:off x="6129360" y="2274840"/>
            <a:ext cx="287820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-1, ПРИКАЗ ТПП РФ  21.12.15 № 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23"/>
          <p:cNvSpPr/>
          <p:nvPr/>
        </p:nvSpPr>
        <p:spPr>
          <a:xfrm>
            <a:off x="128520" y="2778120"/>
            <a:ext cx="693720" cy="36684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4"/>
          <p:cNvSpPr/>
          <p:nvPr/>
        </p:nvSpPr>
        <p:spPr>
          <a:xfrm>
            <a:off x="538200" y="2778120"/>
            <a:ext cx="1770120" cy="3668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5"/>
          <p:cNvSpPr/>
          <p:nvPr/>
        </p:nvSpPr>
        <p:spPr>
          <a:xfrm>
            <a:off x="2382840" y="2778120"/>
            <a:ext cx="115236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11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1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6"/>
          <p:cNvSpPr/>
          <p:nvPr/>
        </p:nvSpPr>
        <p:spPr>
          <a:xfrm>
            <a:off x="3603600" y="2808360"/>
            <a:ext cx="2448000" cy="36648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ИМПОРТНОЕ ТОЛЬКО ПРИ ОТСУТСТВИИ ОТЕЧЕСТВЕН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7"/>
          <p:cNvSpPr/>
          <p:nvPr/>
        </p:nvSpPr>
        <p:spPr>
          <a:xfrm>
            <a:off x="6129360" y="2778120"/>
            <a:ext cx="287820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о стране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8"/>
          <p:cNvSpPr/>
          <p:nvPr/>
        </p:nvSpPr>
        <p:spPr>
          <a:xfrm>
            <a:off x="128520" y="3282840"/>
            <a:ext cx="693720" cy="36684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538200" y="3282840"/>
            <a:ext cx="1770120" cy="3668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ЭЛЕКТРОННАЯ ПРОДУ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0"/>
          <p:cNvSpPr/>
          <p:nvPr/>
        </p:nvSpPr>
        <p:spPr>
          <a:xfrm>
            <a:off x="2382840" y="3282840"/>
            <a:ext cx="115236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.11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9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2"/>
          <p:cNvSpPr/>
          <p:nvPr/>
        </p:nvSpPr>
        <p:spPr>
          <a:xfrm>
            <a:off x="6129360" y="3282840"/>
            <a:ext cx="287820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-1, ПРИКАЗ ТПП 22.12.16 №1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ИНЫЕ СПОСОБЫ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33"/>
          <p:cNvSpPr/>
          <p:nvPr/>
        </p:nvSpPr>
        <p:spPr>
          <a:xfrm>
            <a:off x="125280" y="3786120"/>
            <a:ext cx="693720" cy="36684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4"/>
          <p:cNvSpPr/>
          <p:nvPr/>
        </p:nvSpPr>
        <p:spPr>
          <a:xfrm>
            <a:off x="534960" y="3786120"/>
            <a:ext cx="1770120" cy="3668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5"/>
          <p:cNvSpPr/>
          <p:nvPr/>
        </p:nvSpPr>
        <p:spPr>
          <a:xfrm>
            <a:off x="2379600" y="3786120"/>
            <a:ext cx="115272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.08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8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7"/>
          <p:cNvSpPr/>
          <p:nvPr/>
        </p:nvSpPr>
        <p:spPr>
          <a:xfrm>
            <a:off x="6126120" y="3786120"/>
            <a:ext cx="287820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и о стране (по ОКСМ) + Декларация о производ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42"/>
          <p:cNvSpPr/>
          <p:nvPr/>
        </p:nvSpPr>
        <p:spPr>
          <a:xfrm>
            <a:off x="128520" y="4290840"/>
            <a:ext cx="693720" cy="36684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8"/>
          <p:cNvSpPr/>
          <p:nvPr/>
        </p:nvSpPr>
        <p:spPr>
          <a:xfrm>
            <a:off x="538200" y="4290840"/>
            <a:ext cx="1770120" cy="3668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НА И 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9"/>
          <p:cNvSpPr/>
          <p:nvPr/>
        </p:nvSpPr>
        <p:spPr>
          <a:xfrm>
            <a:off x="2382840" y="4290840"/>
            <a:ext cx="115236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01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50"/>
          <p:cNvSpPr/>
          <p:nvPr/>
        </p:nvSpPr>
        <p:spPr>
          <a:xfrm>
            <a:off x="3606840" y="4290840"/>
            <a:ext cx="2448000" cy="36684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ЗАПРЕТ, КРОМЕ ПЕРЕЧНЯ И ЕАЭС И ОТСУТСТВИЯ ОТЕЧ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1"/>
          <p:cNvSpPr/>
          <p:nvPr/>
        </p:nvSpPr>
        <p:spPr>
          <a:xfrm>
            <a:off x="6129360" y="4290840"/>
            <a:ext cx="287820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о стране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0"/>
          <p:cNvSpPr/>
          <p:nvPr/>
        </p:nvSpPr>
        <p:spPr>
          <a:xfrm>
            <a:off x="5189400" y="1770120"/>
            <a:ext cx="865440" cy="3664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Приказ №126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61"/>
          <p:cNvSpPr/>
          <p:nvPr/>
        </p:nvSpPr>
        <p:spPr>
          <a:xfrm>
            <a:off x="3614760" y="2286000"/>
            <a:ext cx="1512720" cy="3668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-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62"/>
          <p:cNvSpPr/>
          <p:nvPr/>
        </p:nvSpPr>
        <p:spPr>
          <a:xfrm>
            <a:off x="5191200" y="2284560"/>
            <a:ext cx="865080" cy="3664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Приказ №126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3"/>
          <p:cNvSpPr/>
          <p:nvPr/>
        </p:nvSpPr>
        <p:spPr>
          <a:xfrm>
            <a:off x="3591000" y="3284640"/>
            <a:ext cx="1512720" cy="366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РЕТИЙ –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ЕАСЭ – 01.09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64"/>
          <p:cNvSpPr/>
          <p:nvPr/>
        </p:nvSpPr>
        <p:spPr>
          <a:xfrm>
            <a:off x="5175360" y="3284640"/>
            <a:ext cx="865080" cy="3664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Приказ №126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5"/>
          <p:cNvSpPr/>
          <p:nvPr/>
        </p:nvSpPr>
        <p:spPr>
          <a:xfrm>
            <a:off x="3605040" y="3803760"/>
            <a:ext cx="1511640" cy="366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-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6"/>
          <p:cNvSpPr/>
          <p:nvPr/>
        </p:nvSpPr>
        <p:spPr>
          <a:xfrm>
            <a:off x="5189400" y="3803760"/>
            <a:ext cx="865440" cy="3664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Приказ №126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"/>
          <p:cNvSpPr/>
          <p:nvPr/>
        </p:nvSpPr>
        <p:spPr>
          <a:xfrm>
            <a:off x="1803240" y="3578400"/>
            <a:ext cx="50184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ЛО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68"/>
          <p:cNvSpPr/>
          <p:nvPr/>
        </p:nvSpPr>
        <p:spPr>
          <a:xfrm>
            <a:off x="2379600" y="2282760"/>
            <a:ext cx="1152720" cy="36684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11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12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3"/>
          <p:cNvSpPr/>
          <p:nvPr/>
        </p:nvSpPr>
        <p:spPr>
          <a:xfrm>
            <a:off x="1797120" y="2063880"/>
            <a:ext cx="50148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ЛО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54"/>
          <p:cNvSpPr/>
          <p:nvPr/>
        </p:nvSpPr>
        <p:spPr>
          <a:xfrm>
            <a:off x="1116000" y="2579760"/>
            <a:ext cx="119844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1 МНН в ЛО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52"/>
          <p:cNvSpPr/>
          <p:nvPr/>
        </p:nvSpPr>
        <p:spPr>
          <a:xfrm>
            <a:off x="125280" y="4788000"/>
            <a:ext cx="693720" cy="36648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5"/>
          <p:cNvSpPr/>
          <p:nvPr/>
        </p:nvSpPr>
        <p:spPr>
          <a:xfrm>
            <a:off x="534960" y="4788000"/>
            <a:ext cx="1770120" cy="3664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МЕБЕЛЬ, ПРОДУКЦИЯ ДРЕВО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6"/>
          <p:cNvSpPr/>
          <p:nvPr/>
        </p:nvSpPr>
        <p:spPr>
          <a:xfrm>
            <a:off x="2379600" y="4788000"/>
            <a:ext cx="115272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05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10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7"/>
          <p:cNvSpPr/>
          <p:nvPr/>
        </p:nvSpPr>
        <p:spPr>
          <a:xfrm>
            <a:off x="3603600" y="4788000"/>
            <a:ext cx="2448000" cy="36648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Т ПО ПЕРЕЧН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58"/>
          <p:cNvSpPr/>
          <p:nvPr/>
        </p:nvSpPr>
        <p:spPr>
          <a:xfrm>
            <a:off x="6146640" y="4788000"/>
            <a:ext cx="287496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Акт экспертизы ТП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СТ-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копия С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о 01.12.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73"/>
          <p:cNvSpPr/>
          <p:nvPr/>
        </p:nvSpPr>
        <p:spPr>
          <a:xfrm>
            <a:off x="125280" y="5270400"/>
            <a:ext cx="693720" cy="36828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74"/>
          <p:cNvSpPr/>
          <p:nvPr/>
        </p:nvSpPr>
        <p:spPr>
          <a:xfrm>
            <a:off x="534960" y="5270400"/>
            <a:ext cx="1770120" cy="368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КОРОНАРНЫЕ СТЕНТЫ И КАТЕТ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5"/>
          <p:cNvSpPr/>
          <p:nvPr/>
        </p:nvSpPr>
        <p:spPr>
          <a:xfrm>
            <a:off x="2379600" y="5270400"/>
            <a:ext cx="1152720" cy="3682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.12.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146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7"/>
          <p:cNvSpPr/>
          <p:nvPr/>
        </p:nvSpPr>
        <p:spPr>
          <a:xfrm>
            <a:off x="6126120" y="5270400"/>
            <a:ext cx="2878200" cy="3682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твержде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4.12.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Овал 69"/>
          <p:cNvSpPr/>
          <p:nvPr/>
        </p:nvSpPr>
        <p:spPr>
          <a:xfrm>
            <a:off x="135000" y="5721480"/>
            <a:ext cx="693720" cy="366480"/>
          </a:xfrm>
          <a:prstGeom prst="ellipse">
            <a:avLst/>
          </a:prstGeom>
          <a:solidFill>
            <a:srgbClr val="25406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0"/>
          <p:cNvSpPr/>
          <p:nvPr/>
        </p:nvSpPr>
        <p:spPr>
          <a:xfrm>
            <a:off x="544680" y="5721480"/>
            <a:ext cx="1769760" cy="3664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СПОРТИВНОЕ ОРУЖИЕ И БОЕПРИП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71"/>
          <p:cNvSpPr/>
          <p:nvPr/>
        </p:nvSpPr>
        <p:spPr>
          <a:xfrm>
            <a:off x="2389320" y="5721480"/>
            <a:ext cx="115236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09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 1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72"/>
          <p:cNvSpPr/>
          <p:nvPr/>
        </p:nvSpPr>
        <p:spPr>
          <a:xfrm>
            <a:off x="6135840" y="5721480"/>
            <a:ext cx="2846160" cy="36648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СТ-1 / подтвержде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- запчасти, спорт высших дости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79"/>
          <p:cNvSpPr/>
          <p:nvPr/>
        </p:nvSpPr>
        <p:spPr>
          <a:xfrm>
            <a:off x="3614760" y="5756400"/>
            <a:ext cx="2436840" cy="331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-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1"/>
          <p:cNvSpPr/>
          <p:nvPr/>
        </p:nvSpPr>
        <p:spPr>
          <a:xfrm>
            <a:off x="3591000" y="5272200"/>
            <a:ext cx="1511280" cy="366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- ЛИ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2"/>
          <p:cNvSpPr/>
          <p:nvPr/>
        </p:nvSpPr>
        <p:spPr>
          <a:xfrm>
            <a:off x="5175360" y="5272200"/>
            <a:ext cx="865080" cy="3664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Приказ №126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УСЛОВИЯ ДОПУСКА ИНОСТРАННЫХ ТРУ</a:t>
            </a:r>
            <a:br>
              <a:rPr sz="1600"/>
            </a:b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Приказ Минфина РФ от 04.06.2018 № 126н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480" y="836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е правила – с 05.11.21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 допускается объединение в одной закупке продукции включенной и не включенной в перечень Приказа-126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(ЗП, ЗК)  - понижающий 15% коэффициент. Контракт - по цене предложенной в зая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укцион - есл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отя бы од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иция иностранная. Контракт - по цене, сниженной на 15%. Если победитель аукциона уклонился, аналогично для следующего учас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тверждение страны происхождения – декларация в зая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а страны происхождения товаров при исполнении контракта – только на товар из Е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меняется 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упка не состояла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едложенные товары во всех заявках из Е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отя бы один товар в каждой заявке – иностр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ференция – только если в заявке все товары из Е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собый режим при закупке ЛП из ЖНВЛП (ПП-12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ответствие по ОКПД2 и наименованием тов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на не обязательно по ОК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 равенстве баллов приоритет – за ранее поданной зая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54147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Приказ №126н и ПП-1289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ть правило "третий лишний" (ПП от 30.11.2015 № 1289), отклонив ЛП иностранного произво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 – заявка со всеми стадиями производства в ЕАЭС, при условии что ц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же всех предложений ЛС со всеми стадиями производства в ЕАЭ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ше чем на 25% ЛС с неполным производственным циклом в ЕА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тсутствии таких участников – по лучшей ц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ка 1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0 руб., не все стадии производства в Е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ка 2 – 110 руб., все стадии производства в Е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Заявка 3 – 100 руб., все стадии производства в Е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явка 4 -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0 руб., не все стадии производства в Е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Заявка 5 -  70 руб., не все стадии производства в Е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769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ПОДТВЕРЖДЕНИЕ ВСЕХ СТАДИЙ ПРОИЗВОДСТВА ЛС ДЛЯ МЕДПРИМЕНЕНИЯ В ЕАЭС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456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ЕННО декларирование в заявке сведений о документ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тверждающем соответствие производителя Л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 Правил надлежащей производственной практики ЕАЭС, утвержденных Решением Совета Евразийской экономической комиссии от 3 ноября 2016 г. N 77 "Об утверждении Правил надлежащей производственной практики Евразийского экономического союза", или Правил надлежащей производственной практики, утвержденных Минпромторг РФ в соответствии с ч.1 ст. 45 ФЗ «Об обращении лекарственных сред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щем сведения о стадиях технологического процесса производства Л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едицинского применения, осуществляемых на территории ЕАЭС (в том числе о стадиях производства молекулы действующего вещества фармацевтической субстанции), выдаваемом Минпромторг РФ в установленном и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456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 №128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 01.01.201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м страны происхождения лекарственного препарата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ин 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ующих докум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тификат о происхождении това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даваемый уполномоченным органом (организацией) государства - члена ЕАЭС по форме, установленной Правилами определения страны происхождения товаров, являющимися неотъемлемой частью Соглашения о Правилах определения страны происхождения товаров в СНГ от 20 ноября 2009 г., и в соответствии с критериями определения страны происхождения товаров, предусмотренными указанными Правил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ие о подтверждении произво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мышленной продукции на территории РФ, выдаваемое Минпромторг РФ в соответствии с Правилами выдачи заключения о подтверждении производства промышленной продукции на территории РФ, утвержденными ПП РФ от 17 июля 2015 г. N 719 "О подтверждении производства промышленной продукции на территории РФ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сударственном реестре лекарственных средств (ГРЛС) необходимые сведения имеются, а в заявке нет необходимого подтверждения (сертификата или заключ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явке нет декларации, не смотря на наличии сведений в ГРЛ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265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ИЗМЕНЕНЫ ПРАВИЛА ЗАКУПОК ОДНОРАЗОВЫХ МЕДИЗДЕЛИЙ ИЗ ПВХ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" y="119664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П РФ от 19 декабря 2018 г. № 1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я в ПП РФ от 14 августа 2017 г. № 9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01.01.2019 г. поставщиком может бы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е лиц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ложившее изделия организаций, которые осуществляют локализацию собственного производства в соответствии с установленными Правительством РФ показателями локализации на 2019-202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6048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ИЗМЕНЕНЫ ПРАВИЛА ЗАКУПОК ОДНОРАЗОВЫХ МЕДИЗДЕЛИЙ ИЗ ПВХ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4560" y="9871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Arial"/>
              </a:rPr>
              <a:t>ПП РФ от 19 декабря 2018 г. № 15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«третий лишний» для перечня №2 (одноразовые изделия из ПВ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менее чем 2 заявки, которые содержат предложения о поставке издел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 ЕАЭС разных производителей (не входящим в одну группу лиц по ст. 9 135-ФЗ - при сопоставлении этих заявок (окончательных предложений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центная доля стоимости использованных материалов (сырья) иностранного происхождения в цене конечной продукции которых соответствует указанной в приложении к ПП РФ от 14 августа 2017 г. № 96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изводство которых имеется документ, подтверждающий соответствие собственного производства требованиям ГОСТ ISO 13485-2017 "Межгосударственный стандарт. Изделия медицинские. Системы менеджмента качества. Требования для целей регулирования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F871-B829-4C37-BF57-0DC3718796E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900000" y="2133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Arial"/>
                <a:ea typeface="Arial"/>
              </a:rPr>
              <a:t>Актуальные изменения</a:t>
            </a:r>
            <a:br>
              <a:rPr sz="4800"/>
            </a:br>
            <a:r>
              <a:rPr b="0" lang="ru-RU" sz="4800" spc="-1" strike="noStrike">
                <a:solidFill>
                  <a:srgbClr val="1f497d"/>
                </a:solidFill>
                <a:latin typeface="Arial"/>
                <a:ea typeface="Arial"/>
              </a:rPr>
              <a:t>201</a:t>
            </a:r>
            <a:r>
              <a:rPr b="0" lang="en-US" sz="4800" spc="-1" strike="noStrike">
                <a:solidFill>
                  <a:srgbClr val="1f497d"/>
                </a:solidFill>
                <a:latin typeface="Arial"/>
                <a:ea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5688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ИЗМЕНЕНЫ ПРАВИЛА ЗАКУПОК ОДНОРАЗОВЫХ МЕДИЗДЕЛИЙ ИЗ ПВХ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456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траны происхождения - СТ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процентной доли стоимости использованных материалов (сырья) иностранного происхождения в цене конечной продукции - выданный ТПП РФ  акт экспертизы, содержащий информацию о доле стоимости иностранных материалов (сырья), используемых для производства одной единицы медицинского издели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налогичный документ, выданный уполномоченным органом (организацией) государства - члена ЕА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отклоненных заявок – Приказ №126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сполнении контракта, при заключении которого были отклонены  иностранные заявки не допускается замена издел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ел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исходящее из ЕАЭ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тная доля стоимости использованных материалов (сырья) иностранного происхождения в цене конечной продукции которого больше указанной в приложении к ПП РФ от 14 августа 2017 г. № 967  на соответствующий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5976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НЕСКОЛЬКО СТРАН ПРОИСХОЖДЕНИЯ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4560" y="6922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ние нескольких стран происхождения товара в составе первой части заявки не означает неотражение сведений о стране происхождения товара, не влияет на оценку соответствия предлагаемых характеристик товара требованиям законодательства и не влечет негативных последствий как для заказчика, так и для участников аукциона, и не может служить основанием для отказа в допуске заявки на участие в аукционе по причине непредставления информации, предусмотренной частью 3 статьи 66 44-Ф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СУ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ВC РФ от 20 июня 2017 г. № 306-КГ17-552 по делу № А49-307/20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6624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ТЕЛЕФОНЫ С </a:t>
            </a: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Android </a:t>
            </a: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iOS </a:t>
            </a: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– только при обосновании невозможности соблюдения запрета на иностранное ПО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4560" y="112536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Дополнительные требования к программам для ЭВМ и БД, сведения о которых включены в реестр российского программного обеспечения, утвержденные ПП РФ от 23 марта 2017 г. № 3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01.01.2019 г.  - абзац шестой подпункта "а" пункта 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д. Постановления Правительства РФ от 07.03.2018 N 2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бонентских устройств радиоподвижной связи - под управлением мобильной операционной системы, сведения о которой включены в единый реестр российского ПО и которая сертифицирована в соответствии с требованиями законодательства РФ о защите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ее допускалисть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иностранное - с обоснованием в порядке, установленном ПП РФ от 16 ноября 2015 г. № 1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6840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РЕГИСТРАЦИЯ УЗ. ЕДИНЫЙ РЕЕСТР УЧАСТНИКОВ ЗАКУПОК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4560" y="9871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01.01.2019 года - участники закупок регистрируются в Е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УЗ -  на три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 не вправе подавать заявки на участие менее чем за три месяца до даты окончания срока регистрации в Е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П РФ от 30.12.2018 № 1752 утверждены Правила регистрации участников закупок в ЕИС и ведения ЕР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в ЕРУЗ осуществляется с применением усиленной квалифицированной электронной под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, идентификация и аутентификация в Единой системе идентификации и аутентификации (ЕСИА) через портал госусл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сведений и документов, предусмотренных пунктами 5 и 6 Правил, для размещения в ЕРУЗ через функционал личного кабинета участника закупки в Е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- с 00.00 часов по московскому времени дня, следующего за днем осуществления указан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редитация на площадках – автоматическая, в течение 1 рабоче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691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ВНЕШНЯЯ ЭКСПЕРТИЗА НЕ ТРЕБУЕТСЯ ПРИ ЕП ПО РЕЗУЛЬТАТАМ НЕСОСТОЯВШИХСЯ ЗАКУПОК В ЭФ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456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ФЗ № 502-ФЗ от 27 декабря 201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7.12.2018 г. устранена ошибка в п. 1 ч. 4 ст. 94 Закона № 44-ФЗ - не требуется проведение «внешней» экспертизы поставленного товара, выполненной работы, оказанной услуги по контрактам, заключенным по результатам несостоявшихся электронных закупок - в перечень исключений включены закупки по п. 25.1 – 25.3 ч. 1 ст. 93 Закона № 44-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О!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оговорки об обратной силе изме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нтрактов, заключенных на основании п. 25.1 - 25.3 приемки, которые осуществлялись с 01.07.18 по 26.12.18 должны быть с внешней экспертиз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- можно без внешней эксперти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мощь заказчик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14.07.2015 N 20-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езидиума ВАС РФ от 29 марта 2005 г. N 11498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3640" y="-6840"/>
            <a:ext cx="655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ОФОРМЛЕНИЕ ВНЕШНЕЙ ЭКСПЕРТИЗЫ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7640" y="126828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ФЗ от 27.12.2018 № 512-Ф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 (с 07.01.201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 7 ст. 41 изложить в реда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зультаты экспертизы, проводимой экспертом или экспертной организацией в случаях, предусмотренных настоящим ФЗ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формляются в виде заключен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писываетс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экспертом или уполномоченным представителем экспертной организации и должно быть объективным, обоснованным и соответствовать законодательству Р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редоставление недостоверных результатов экспертизы, экспертного заключения или заведомо ложного экспертного заключения, за невыполнение экспертом, экспертной организацией требования части 3 настоящей статьи (не уведомление в заказчика и поставщика о допустимости участия в экспертизе) эксперт, экспертная организация, уполномоченный представитель экспертной организации, должностные лица экспертной организации несут ответственность в соответствии с законодательством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280" y="73080"/>
            <a:ext cx="7755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ОТВЕТСТВЕННОСТЬ ЭКСПЕРТ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560" y="95220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ФЗ от 27.12.2018 № 510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КОАП РФ статья 7.32.6. "Заведомо ложное экспертное заключение в сфере закупок товаров, работ, услуг для обеспечения государственных и муниципальных нужд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ча экспертом, экспертной организацией, уполномоченным представителем экспертной организации заведомо ложного экспертного заключения в сфере закупок товаров, работ, услуг для обеспечения государственных и муниципальных нужд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это действие не содержит уголовно наказуемого дея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олжностных лиц штраф от 30 тыс. до 50 тыс. рублей или дисквалификацию на срок от шести месяцев до одного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юридических лиц - штраф от 100 тыс. до 150 тыс.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534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ОТВЕТСТВЕННОСТЬ ЭКСПЕРТ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2200" y="98100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ФЗ от 27.12.2018 № 510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овно наказуемо, 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крупного ущер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2,250 млн. руб. см. прим. к ст. 170.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осторожности причинение тяжкого вреда здоровью или смерть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осторожности смерть двух и более л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УК РФ статья 200.6 "Заведомо ложное экспертное заключение в сфере закупок товаров, работ, услуг для обеспечения государственных и муниципальных нужд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раф до 300 тыс. рублей, либо принудительные работы или лишение свободы до одн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трафа 300-500 тыс. рублей, работы или лишение свободы до трех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ие свободы, принудительные работы или лишение свободы до четырех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на занятие определенных должностей или занятие определенными видам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варительное следствие по указанным делам производится следователями Следственного комитета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9752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ГРАФИКИ ВЫПОЛНЕНИЯ РАБОТ И ОПЛАТЫ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4560" y="836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риказ Министерства строительства и жилищно-коммунального хозяйства РФ от 5 июня 2018 г. N 336/п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01.01.2019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составления в рамках Закона № 44-ФЗ о контрактной системе графика строительно-монтажных работ и графика оплаты работ по контракту на строительство, реконструкцию объектов капительного стро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ы графика выполнения работ и графика опла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ных работ составляются заказчиком одновременно с проектом контракта, явля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приложением и размещаютс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ом в ЕИ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окументацией об осуществлении закупки, извещением о закуп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графика выполнения работ и графика оплаты выполненных работ не допускается, за исключением случаев, предусмотренных контрактом с учетом требований Закона № 44-Ф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89240" y="0"/>
            <a:ext cx="4838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НДС 20%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456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З от 27.12.2018 № 502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54 ст.112 Закона № 44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кается изменение цены заключенного контракта в пределах увеличения в соответствии с законодательством РФ НД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оглашению сторон (не обязательно для заказчик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величенный размер ставки налога на добавленную стоимость не предусмотрен условиями контр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контрактов, заключенных до 1 января 2019 года, для ТРУ с приемкой после 1 января 20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допсоглашения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 1 октября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осударственных и муниципальных заказчиков - в пределах доведенных в соответствии с бюджетным законодательством РФ ЛБО на срок исполнения контр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8001000" cy="4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5794"/>
                </a:solidFill>
                <a:latin typeface="Arial"/>
                <a:ea typeface="Arial"/>
              </a:rPr>
              <a:t>ЗАКУПКИ У СМП И СОНКО. ИЗМЕНЕНИЯ</a:t>
            </a:r>
            <a:endParaRPr b="0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902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признания процедур закупки у СМП/СОНКО несостоявшейся (нет участников, либо все были отклонены), сохраняется возможность проведения процедуры в общем поряд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 января 2019 год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заказчиков появляется возможность учитывать объемы контрактов, заключенных с СМП и СОНКО по итогам процедур (в том числе и электронных), признанных несостоявшимися (единственный участник), в объем 15-процентной квоты заку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Письмо Минфина от 02.11.2018 № 24-01-07/7931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изменения, вступившие в силу с 01.01.2019, должны быть учтены при подготовке годового отчета за 2018 г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Текст 2"/>
          <p:cNvSpPr/>
          <p:nvPr/>
        </p:nvSpPr>
        <p:spPr>
          <a:xfrm>
            <a:off x="685800" y="2630520"/>
            <a:ext cx="7848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056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Г КАК ОБЕСПЕЧЕНИЕ ЗАЯВК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4560" y="6919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НАПОМИ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ч. 52 ст. 112 44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30 июня 2019 года включительно обеспечение заявок на участие в открытом конкурсе в электронной форме, конкурсе с ограниченным участием в электронной форме, двухэтапном конкурсе в электронной форме, электронном аукционе может предоставляться участником закупки только путем внесения денежны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52 введена Федеральным законом от 31.12.2017 N 504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89240" y="0"/>
            <a:ext cx="5270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ЭНЕРГОСБЕРЕЖЕНИ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9480" y="9871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риказом МЭР РФ от 9 июня 2016 г. № 362  с 01.01.2019 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сены изменения в пункт 6 Требований энергетической эффективности товаров, используемых для создания элементов конструкций зданий, строений, сооружений, в том числе инженерных систем ресурсоснабжения, влияющих на энергетическую эффективность зданий, строений, сооружений, утвержденных приказом Минэкономразвития России от 4 июня 2010 г. № 22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зменениям доля осветительных приборов, отличных от светодиодов, при размещении государственным или муниципальным заказчиком государственных или муниципальных заказов на поставки осветительных приборов для зданий, магистральных дорог, магистральных улиц общегородског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я не должна превышать в 2019 г. - 50 процентов от общего объема таких заказ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натуральном выраже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456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01.01.2019 г. вступил в силу подпункт "в" пункта 3 Порядка определения начальной (максимальной) цены контракта, цены контракта, заключаемого с единственным поставщиком (подрядчиком, исполнителем), при осуществлении закупок лекарственных препаратов для медицинского применения, утверждённого приказом Минздрава России от 27 октября 2018 г. № 871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норма предусматривает использование при расчёте цены единицы планируемого к закупке лекарственного препарата также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ерентной ц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формируется автоматически в единой государственной информационной системе в сфере здравоох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здравом России подготовлены разъяснения (письмо Министерства здравоохранения РФ от 27 декабря 2018 г. № 18-3/10/2-7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zakupki.gov.ru/epz/main/public/download/downloadDocument.html?id=285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560" y="99684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исьмо Минздрав России №18-3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/2-708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от 27.12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референтных цен – автоматически при помощи ЕГИСЗ по состоянию на 1 января, 1 апреля, 1 июля, 1 октября текуще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 на расчет и использования референтных цен на препараты медицинского применения, в отношении которых определена взаимозаменяемость будет осуществляться поэтапно в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ерентные цены будут рассчитываться по мере определения взаимозаменя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 января 2019 в ЕГИСЗ – около 3000 позиций. Значения справочны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ы к сведению заказчиками при обосновании НМ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ьно – средневзвешенная цена не есть референ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т референтной цены – считать без 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ерентные цены (правила доступа, адрес выгрузки и др.)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ortal.egisz.rosminzdrav.ru/materials/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89240" y="0"/>
            <a:ext cx="5991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ЮЧЕВАЯ СТАВКА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4560" y="6919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а Банком России с 17.12.2018 г.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7,75% год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ая ставка используется при расчёте пени за просрочку исполнения обязательств по контрак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4560" y="98100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П РФ от 21.01.2019 N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"О внесении изменений в приложение к Постановлению Правительства Российской Федерации от 17 июля 2015 г. N 719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 перечень промышленной продукции, в отношении которой устанавливаются определенные требования в целях ее отнесения к продукции, произведенной на территории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подтверждения производства промышленной продукции на территории РФ утверждены Постановлением Правительства РФ от 17.07.2015 N 7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казанный перечень включены позиции, относящиеся к продукции энергетического машиностроения, электротехнической и кабельной промышленности (раздел V), продукции тяжелого машиностроения (раздел VI), насосному оборудованию (раздел XIX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З от 27.12.2018 № 572-ФЗ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08.01.2019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зменения в Закон № 135-ФЗ о защите конку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стечении срока договора аренды государственного или муниципального имущества, заключение договора на новый срок с арендатором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лежащим образ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нившим свои обязанности, осуществляется без проведения конкурса, аукциона,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сли иное не установлено договором и срок действия договора не ограничен законодатель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арендной платы определяется на основании отчёта о результатах оценки рыночной стоимости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альный срок, на который перезаключается договор аренды, должен составлять не менее чем три года. Срок может быть уменьшен только на основании заявления аренд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456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ами Минстроя России от 5 июля 2018 г. № 397/пр и № 398/пр утвержде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овой государственный (муниципальный) контракт на выполнение проектных и изыскательских работ (далее – типовой контракт на ПИР) и информационная карта указанного типового контракта на ПИ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овой государственный (муниципальный) контракт на строительство (реконструкцию) объекта капитального строительства (далее – типовой контракт на СМР) и информационная карта указанного типового контракта на СМ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применяться при любом размере НМ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ы предмета контракта по классификаторам ОКПД2 и ОКВЭД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формационной карте типового контракта на СМР установлено, что типовой контракт не применяется при выполнении работ по строительству или реконструкции объектов капитального строительства, в отношении которых осуществляются работы по сохранению объекта культурного наслед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ают в силу с 1 июля 201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Блок-схема: решение 10"/>
          <p:cNvSpPr/>
          <p:nvPr/>
        </p:nvSpPr>
        <p:spPr>
          <a:xfrm>
            <a:off x="6372360" y="68436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Блок-схема: решение 11"/>
          <p:cNvSpPr/>
          <p:nvPr/>
        </p:nvSpPr>
        <p:spPr>
          <a:xfrm>
            <a:off x="6372360" y="140508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4248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УКЦИОН В ЭФ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. 54.1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32-конечная звезда 3"/>
          <p:cNvSpPr/>
          <p:nvPr/>
        </p:nvSpPr>
        <p:spPr>
          <a:xfrm>
            <a:off x="5292720" y="17640"/>
            <a:ext cx="719280" cy="647640"/>
          </a:xfrm>
          <a:custGeom>
            <a:avLst/>
            <a:gdLst>
              <a:gd name="textAreaLeft" fmla="*/ 164160 w 719280"/>
              <a:gd name="textAreaRight" fmla="*/ 555120 w 7192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7"/>
          <p:cNvSpPr/>
          <p:nvPr/>
        </p:nvSpPr>
        <p:spPr>
          <a:xfrm>
            <a:off x="5335560" y="16992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6"/>
          <p:cNvSpPr/>
          <p:nvPr/>
        </p:nvSpPr>
        <p:spPr>
          <a:xfrm>
            <a:off x="539640" y="900000"/>
            <a:ext cx="59770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ЩЕНИЕ +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7"/>
          <p:cNvSpPr/>
          <p:nvPr/>
        </p:nvSpPr>
        <p:spPr>
          <a:xfrm>
            <a:off x="6732720" y="866880"/>
            <a:ext cx="2158920" cy="792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7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(до 3 млн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Блок-схема: решение 12"/>
          <p:cNvSpPr/>
          <p:nvPr/>
        </p:nvSpPr>
        <p:spPr>
          <a:xfrm>
            <a:off x="6372360" y="165888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решение 13"/>
          <p:cNvSpPr/>
          <p:nvPr/>
        </p:nvSpPr>
        <p:spPr>
          <a:xfrm>
            <a:off x="6372360" y="237960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4"/>
          <p:cNvSpPr/>
          <p:nvPr/>
        </p:nvSpPr>
        <p:spPr>
          <a:xfrm>
            <a:off x="539640" y="1878120"/>
            <a:ext cx="5977080" cy="93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НИЕ ПЕРВЫХ ЧАСТЕЙ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Протокол рассмотрения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5"/>
          <p:cNvSpPr/>
          <p:nvPr/>
        </p:nvSpPr>
        <p:spPr>
          <a:xfrm>
            <a:off x="6732720" y="1730520"/>
            <a:ext cx="2158920" cy="792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ДО 7 ДНЕЙ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/ 1 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Р,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(до 3 млн. руб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9"/>
          <p:cNvSpPr/>
          <p:nvPr/>
        </p:nvSpPr>
        <p:spPr>
          <a:xfrm>
            <a:off x="6732720" y="2703600"/>
            <a:ext cx="2158920" cy="792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2"/>
          <p:cNvSpPr/>
          <p:nvPr/>
        </p:nvSpPr>
        <p:spPr>
          <a:xfrm>
            <a:off x="544680" y="3535200"/>
            <a:ext cx="5976720" cy="935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АУКЦ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Размещение на ЭП протокола аукц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решение 24"/>
          <p:cNvSpPr/>
          <p:nvPr/>
        </p:nvSpPr>
        <p:spPr>
          <a:xfrm>
            <a:off x="6372360" y="457524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Блок-схема: решение 25"/>
          <p:cNvSpPr/>
          <p:nvPr/>
        </p:nvSpPr>
        <p:spPr>
          <a:xfrm>
            <a:off x="6372360" y="529596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6"/>
          <p:cNvSpPr/>
          <p:nvPr/>
        </p:nvSpPr>
        <p:spPr>
          <a:xfrm>
            <a:off x="539640" y="4575240"/>
            <a:ext cx="59770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НИЕ ВТОРЫХ ЧАСТЕЙ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Протокол подведения итогов аукц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7"/>
          <p:cNvSpPr/>
          <p:nvPr/>
        </p:nvSpPr>
        <p:spPr>
          <a:xfrm>
            <a:off x="6732720" y="464652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МАКСИМУМ 3 Р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Блок-схема: решение 28"/>
          <p:cNvSpPr/>
          <p:nvPr/>
        </p:nvSpPr>
        <p:spPr>
          <a:xfrm>
            <a:off x="6372360" y="5546880"/>
            <a:ext cx="287280" cy="2174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Блок-схема: решение 29"/>
          <p:cNvSpPr/>
          <p:nvPr/>
        </p:nvSpPr>
        <p:spPr>
          <a:xfrm>
            <a:off x="6372360" y="626760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30"/>
          <p:cNvSpPr/>
          <p:nvPr/>
        </p:nvSpPr>
        <p:spPr>
          <a:xfrm>
            <a:off x="544680" y="5546880"/>
            <a:ext cx="5976720" cy="93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сведения в реестр контракт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1"/>
          <p:cNvSpPr/>
          <p:nvPr/>
        </p:nvSpPr>
        <p:spPr>
          <a:xfrm>
            <a:off x="6732720" y="561960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МИНИМУМ 1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(МАКСИМУМ – 13+ Д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"/>
          <p:cNvSpPr/>
          <p:nvPr/>
        </p:nvSpPr>
        <p:spPr>
          <a:xfrm>
            <a:off x="6875640" y="3652920"/>
            <a:ext cx="17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аг аукциона – 0,5%-5%,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но не менее 10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5545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К ЭФ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4560" y="4043520"/>
            <a:ext cx="910908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я – не позднее чем за 2 р.д. до окончания подачи (в течение 1 р.д. - в ЕИС, срок подачи продляется до 5 р. 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а – не позднее чем за 2 д. до окончания подачи заявок (в течение 1 р.д. - изменения в П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– протокол комисс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нжирование и дополнение  и размещение протоко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 течение 1 ча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ракт – цена + информация о товаре из заявки (в т. ч. товарны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Блок-схема: решение 3"/>
          <p:cNvSpPr/>
          <p:nvPr/>
        </p:nvSpPr>
        <p:spPr>
          <a:xfrm>
            <a:off x="6305400" y="949320"/>
            <a:ext cx="28764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Блок-схема: решение 4"/>
          <p:cNvSpPr/>
          <p:nvPr/>
        </p:nvSpPr>
        <p:spPr>
          <a:xfrm>
            <a:off x="6305400" y="1668600"/>
            <a:ext cx="28764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5"/>
          <p:cNvSpPr/>
          <p:nvPr/>
        </p:nvSpPr>
        <p:spPr>
          <a:xfrm>
            <a:off x="473040" y="949320"/>
            <a:ext cx="5975280" cy="9349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вещение + проект контрак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6"/>
          <p:cNvSpPr/>
          <p:nvPr/>
        </p:nvSpPr>
        <p:spPr>
          <a:xfrm>
            <a:off x="6664320" y="1020600"/>
            <a:ext cx="21607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ОТ 5 Р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Блок-схема: решение 7"/>
          <p:cNvSpPr/>
          <p:nvPr/>
        </p:nvSpPr>
        <p:spPr>
          <a:xfrm>
            <a:off x="6300720" y="195732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Блок-схема: решение 8"/>
          <p:cNvSpPr/>
          <p:nvPr/>
        </p:nvSpPr>
        <p:spPr>
          <a:xfrm>
            <a:off x="6300720" y="2674800"/>
            <a:ext cx="287280" cy="2178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9"/>
          <p:cNvSpPr/>
          <p:nvPr/>
        </p:nvSpPr>
        <p:spPr>
          <a:xfrm>
            <a:off x="468360" y="1955880"/>
            <a:ext cx="59752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НИЕ И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0"/>
          <p:cNvSpPr/>
          <p:nvPr/>
        </p:nvSpPr>
        <p:spPr>
          <a:xfrm>
            <a:off x="6659640" y="2027160"/>
            <a:ext cx="216036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Р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Блок-схема: решение 11"/>
          <p:cNvSpPr/>
          <p:nvPr/>
        </p:nvSpPr>
        <p:spPr>
          <a:xfrm>
            <a:off x="6303960" y="296388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Блок-схема: решение 12"/>
          <p:cNvSpPr/>
          <p:nvPr/>
        </p:nvSpPr>
        <p:spPr>
          <a:xfrm>
            <a:off x="6303960" y="368460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3"/>
          <p:cNvSpPr/>
          <p:nvPr/>
        </p:nvSpPr>
        <p:spPr>
          <a:xfrm>
            <a:off x="471600" y="2963880"/>
            <a:ext cx="59752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14"/>
          <p:cNvSpPr/>
          <p:nvPr/>
        </p:nvSpPr>
        <p:spPr>
          <a:xfrm>
            <a:off x="6662880" y="3036960"/>
            <a:ext cx="2160360" cy="792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Е РАНЕЕ 7 Р.Д. СО ДНЯ РАЗМЕЩЕНИЯ ПРОТО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32-конечная звезда 16"/>
          <p:cNvSpPr/>
          <p:nvPr/>
        </p:nvSpPr>
        <p:spPr>
          <a:xfrm>
            <a:off x="5003640" y="76320"/>
            <a:ext cx="719280" cy="647640"/>
          </a:xfrm>
          <a:custGeom>
            <a:avLst/>
            <a:gdLst>
              <a:gd name="textAreaLeft" fmla="*/ 164160 w 719280"/>
              <a:gd name="textAreaRight" fmla="*/ 555120 w 7192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7"/>
          <p:cNvSpPr/>
          <p:nvPr/>
        </p:nvSpPr>
        <p:spPr>
          <a:xfrm>
            <a:off x="5003640" y="23652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6480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«</a:t>
            </a:r>
            <a:r>
              <a:rPr b="0" lang="ru-RU" sz="1200" spc="-1" strike="noStrike">
                <a:solidFill>
                  <a:srgbClr val="f2f2f2"/>
                </a:solidFill>
                <a:latin typeface="Arial"/>
              </a:rPr>
              <a:t>БЛОКИРУЮЩИЙ» ФИНКОНТРОЛЬ В ОТНОШЕНИИ ЗАКАЗЧИКОВ СУБЪЕКТОВ И МУНИЦИПАЛЬНЫХ</a:t>
            </a:r>
            <a:r>
              <a:rPr b="0" lang="en-US" sz="12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38040" y="2220840"/>
            <a:ext cx="3816360" cy="7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5091120" y="2220840"/>
            <a:ext cx="3816360" cy="792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О И ДОВЕДЕНО Д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6"/>
          <p:cNvCxnSpPr>
            <a:stCxn id="56" idx="3"/>
            <a:endCxn id="57" idx="1"/>
          </p:cNvCxnSpPr>
          <p:nvPr/>
        </p:nvCxnSpPr>
        <p:spPr>
          <a:xfrm>
            <a:off x="4154400" y="2615760"/>
            <a:ext cx="93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TextBox 7"/>
          <p:cNvSpPr/>
          <p:nvPr/>
        </p:nvSpPr>
        <p:spPr>
          <a:xfrm>
            <a:off x="3220920" y="113364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ТРОЛЬ СООТВЕТ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324000" y="1773360"/>
            <a:ext cx="8597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нформация об объеме финансов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338040" y="3597120"/>
            <a:ext cx="3816360" cy="640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-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5091120" y="3597120"/>
            <a:ext cx="3816360" cy="640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2"/>
          <p:cNvCxnSpPr>
            <a:stCxn id="61" idx="3"/>
            <a:endCxn id="62" idx="1"/>
          </p:cNvCxnSpPr>
          <p:nvPr/>
        </p:nvCxnSpPr>
        <p:spPr>
          <a:xfrm>
            <a:off x="4154400" y="3916080"/>
            <a:ext cx="93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Прямоугольник 13"/>
          <p:cNvSpPr/>
          <p:nvPr/>
        </p:nvSpPr>
        <p:spPr>
          <a:xfrm>
            <a:off x="324000" y="3122640"/>
            <a:ext cx="85978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КЗ и объем финансов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318960" y="4341960"/>
            <a:ext cx="3816360" cy="639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ЩЕНИЕ,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5072040" y="4341960"/>
            <a:ext cx="3816360" cy="639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-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6"/>
          <p:cNvCxnSpPr>
            <a:stCxn id="65" idx="3"/>
            <a:endCxn id="66" idx="1"/>
          </p:cNvCxnSpPr>
          <p:nvPr/>
        </p:nvCxnSpPr>
        <p:spPr>
          <a:xfrm>
            <a:off x="4135320" y="4662000"/>
            <a:ext cx="93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Прямоугольник 17"/>
          <p:cNvSpPr/>
          <p:nvPr/>
        </p:nvSpPr>
        <p:spPr>
          <a:xfrm>
            <a:off x="318960" y="5086440"/>
            <a:ext cx="3816360" cy="639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8"/>
          <p:cNvSpPr/>
          <p:nvPr/>
        </p:nvSpPr>
        <p:spPr>
          <a:xfrm>
            <a:off x="5072040" y="5086440"/>
            <a:ext cx="3816360" cy="639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 ОПРЕДЕЛЕНИЯ ПОСТАВ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9"/>
          <p:cNvCxnSpPr>
            <a:stCxn id="68" idx="3"/>
            <a:endCxn id="69" idx="1"/>
          </p:cNvCxnSpPr>
          <p:nvPr/>
        </p:nvCxnSpPr>
        <p:spPr>
          <a:xfrm>
            <a:off x="4135320" y="5406840"/>
            <a:ext cx="93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Прямоугольник 20"/>
          <p:cNvSpPr/>
          <p:nvPr/>
        </p:nvSpPr>
        <p:spPr>
          <a:xfrm>
            <a:off x="307800" y="5830920"/>
            <a:ext cx="3816360" cy="639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ЕСТР КОНТР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1"/>
          <p:cNvSpPr/>
          <p:nvPr/>
        </p:nvSpPr>
        <p:spPr>
          <a:xfrm>
            <a:off x="5060880" y="5830920"/>
            <a:ext cx="3816360" cy="639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22"/>
          <p:cNvCxnSpPr>
            <a:stCxn id="71" idx="3"/>
            <a:endCxn id="72" idx="1"/>
          </p:cNvCxnSpPr>
          <p:nvPr/>
        </p:nvCxnSpPr>
        <p:spPr>
          <a:xfrm>
            <a:off x="4124160" y="6151320"/>
            <a:ext cx="937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Прямоугольник 23"/>
          <p:cNvSpPr/>
          <p:nvPr/>
        </p:nvSpPr>
        <p:spPr>
          <a:xfrm>
            <a:off x="3039120" y="141300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9d9d9"/>
                </a:solidFill>
                <a:latin typeface="Arial"/>
              </a:rPr>
              <a:t>ч. 5 ст. 99 Закона № 44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4"/>
          <p:cNvSpPr/>
          <p:nvPr/>
        </p:nvSpPr>
        <p:spPr>
          <a:xfrm>
            <a:off x="282600" y="730080"/>
            <a:ext cx="2000160" cy="43056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5"/>
          <p:cNvSpPr/>
          <p:nvPr/>
        </p:nvSpPr>
        <p:spPr>
          <a:xfrm>
            <a:off x="2355840" y="723960"/>
            <a:ext cx="2160720" cy="430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НАНСОВЫЙ ОРГАН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6"/>
          <p:cNvSpPr/>
          <p:nvPr/>
        </p:nvSpPr>
        <p:spPr>
          <a:xfrm>
            <a:off x="4587840" y="723960"/>
            <a:ext cx="2160720" cy="430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ЫЙ ФИНАНСОВ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7"/>
          <p:cNvSpPr/>
          <p:nvPr/>
        </p:nvSpPr>
        <p:spPr>
          <a:xfrm>
            <a:off x="6819840" y="723960"/>
            <a:ext cx="2160720" cy="430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 УПРАВЛЕНИЯ ГВБ ФО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2-конечная звезда 28"/>
          <p:cNvSpPr/>
          <p:nvPr/>
        </p:nvSpPr>
        <p:spPr>
          <a:xfrm>
            <a:off x="2987640" y="3262320"/>
            <a:ext cx="3492360" cy="31528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719640 h 3152880"/>
              <a:gd name="textAreaBottom" fmla="*/ 2433240 h 315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</a:rPr>
              <a:t>С 01.01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Arial"/>
              </a:rPr>
              <a:t>БЛОКИРУЮЩИЙ КОНТРОЛЬ РЕГИОНАЛЬНОГО И МУНИЦИПАЛЬНОГО УРОВ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4860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ОСТОЯВШИЙСЯ ЗКЭФ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185760" y="890640"/>
            <a:ext cx="2879640" cy="151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3143160" y="871560"/>
            <a:ext cx="5815080" cy="719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АНО НИ ОДНОЙ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. 14 СТ. 8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5"/>
          <p:cNvSpPr/>
          <p:nvPr/>
        </p:nvSpPr>
        <p:spPr>
          <a:xfrm>
            <a:off x="3143160" y="1630440"/>
            <a:ext cx="5815080" cy="720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НА ТОЛЬКО 1 ЗАЯ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. 14 СТ. 8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6"/>
          <p:cNvSpPr/>
          <p:nvPr/>
        </p:nvSpPr>
        <p:spPr>
          <a:xfrm>
            <a:off x="173160" y="2433600"/>
            <a:ext cx="2879640" cy="1511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НИЕ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7"/>
          <p:cNvSpPr/>
          <p:nvPr/>
        </p:nvSpPr>
        <p:spPr>
          <a:xfrm>
            <a:off x="3143160" y="2465280"/>
            <a:ext cx="5815080" cy="7174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ОНЕНЫ ВСЕ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. 9 СТ. 82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3143160" y="3232080"/>
            <a:ext cx="5815080" cy="8082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ЗАЯВКА ПРИЗНАНА СООТВЕТСТВУ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. 9 СТ. 82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5"/>
          <p:cNvSpPr/>
          <p:nvPr/>
        </p:nvSpPr>
        <p:spPr>
          <a:xfrm>
            <a:off x="195120" y="4865760"/>
            <a:ext cx="4327560" cy="8776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АНО ЗАЯВОК, ВСЕ ОТКЛОНЕНЫ, УКЛОНЕНИЕ ОТ ЗАКЛЮЧЕНИЯ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6"/>
          <p:cNvSpPr/>
          <p:nvPr/>
        </p:nvSpPr>
        <p:spPr>
          <a:xfrm>
            <a:off x="4673520" y="4863960"/>
            <a:ext cx="4327560" cy="719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ООТВЕТСТВУЮЩАЯ ЗАЯ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7"/>
          <p:cNvSpPr/>
          <p:nvPr/>
        </p:nvSpPr>
        <p:spPr>
          <a:xfrm>
            <a:off x="3922560" y="4186080"/>
            <a:ext cx="750960" cy="570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2"/>
          <p:cNvSpPr/>
          <p:nvPr/>
        </p:nvSpPr>
        <p:spPr>
          <a:xfrm>
            <a:off x="195120" y="4149720"/>
            <a:ext cx="8785440" cy="606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ЛЕНИЕ СРОКА ПОДАЧИ ЗАЯВОК НА 4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клонённый участник вправе подать заяв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18"/>
          <p:cNvSpPr/>
          <p:nvPr/>
        </p:nvSpPr>
        <p:spPr>
          <a:xfrm>
            <a:off x="195120" y="5870520"/>
            <a:ext cx="4327560" cy="6858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АЯ ЗАКУП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. 2 ст. 8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9"/>
          <p:cNvSpPr/>
          <p:nvPr/>
        </p:nvSpPr>
        <p:spPr>
          <a:xfrm>
            <a:off x="4673520" y="5867280"/>
            <a:ext cx="4327560" cy="6699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АКТ С ЕП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. 25.2 ч. 1 ст. 9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32-конечная звезда 20"/>
          <p:cNvSpPr/>
          <p:nvPr/>
        </p:nvSpPr>
        <p:spPr>
          <a:xfrm>
            <a:off x="5435640" y="49320"/>
            <a:ext cx="718920" cy="647640"/>
          </a:xfrm>
          <a:custGeom>
            <a:avLst/>
            <a:gdLst>
              <a:gd name="textAreaLeft" fmla="*/ 164160 w 718920"/>
              <a:gd name="textAreaRight" fmla="*/ 554760 w 71892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27"/>
          <p:cNvSpPr/>
          <p:nvPr/>
        </p:nvSpPr>
        <p:spPr>
          <a:xfrm>
            <a:off x="5443560" y="19044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Блок-схема: решение 10"/>
          <p:cNvSpPr/>
          <p:nvPr/>
        </p:nvSpPr>
        <p:spPr>
          <a:xfrm>
            <a:off x="6372360" y="68436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Блок-схема: решение 11"/>
          <p:cNvSpPr/>
          <p:nvPr/>
        </p:nvSpPr>
        <p:spPr>
          <a:xfrm>
            <a:off x="6372360" y="140508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4248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С В ЭФ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. 54.1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4" name="32-конечная звезда 3"/>
          <p:cNvSpPr/>
          <p:nvPr/>
        </p:nvSpPr>
        <p:spPr>
          <a:xfrm>
            <a:off x="5219640" y="60480"/>
            <a:ext cx="719280" cy="647640"/>
          </a:xfrm>
          <a:custGeom>
            <a:avLst/>
            <a:gdLst>
              <a:gd name="textAreaLeft" fmla="*/ 164160 w 719280"/>
              <a:gd name="textAreaRight" fmla="*/ 555120 w 7192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27"/>
          <p:cNvSpPr/>
          <p:nvPr/>
        </p:nvSpPr>
        <p:spPr>
          <a:xfrm>
            <a:off x="5251320" y="26028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6"/>
          <p:cNvSpPr/>
          <p:nvPr/>
        </p:nvSpPr>
        <p:spPr>
          <a:xfrm>
            <a:off x="539640" y="892080"/>
            <a:ext cx="59770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ЩЕНИЕ +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изменения - не позднее чем за пять 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6732720" y="93492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 Р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Блок-схема: решение 12"/>
          <p:cNvSpPr/>
          <p:nvPr/>
        </p:nvSpPr>
        <p:spPr>
          <a:xfrm>
            <a:off x="6372360" y="165888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Блок-схема: решение 13"/>
          <p:cNvSpPr/>
          <p:nvPr/>
        </p:nvSpPr>
        <p:spPr>
          <a:xfrm>
            <a:off x="6372360" y="237960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4"/>
          <p:cNvSpPr/>
          <p:nvPr/>
        </p:nvSpPr>
        <p:spPr>
          <a:xfrm>
            <a:off x="539640" y="1873080"/>
            <a:ext cx="59770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СМОТРЕНИЕ И ОЦЕНКА ПЕРВЫХ ЧАСТЕЙ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  <a:ea typeface="Calibri"/>
              </a:rPr>
              <a:t>протокол подписывается и в тот же день направляется оператору 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5"/>
          <p:cNvSpPr/>
          <p:nvPr/>
        </p:nvSpPr>
        <p:spPr>
          <a:xfrm>
            <a:off x="6732720" y="194616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ДО 5 Р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р.д. - до 1 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0 р.д. – наука, искусство, куль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лок-схема: решение 16"/>
          <p:cNvSpPr/>
          <p:nvPr/>
        </p:nvSpPr>
        <p:spPr>
          <a:xfrm>
            <a:off x="6372360" y="2630520"/>
            <a:ext cx="287280" cy="2174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Блок-схема: решение 17"/>
          <p:cNvSpPr/>
          <p:nvPr/>
        </p:nvSpPr>
        <p:spPr>
          <a:xfrm>
            <a:off x="6372360" y="335124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8"/>
          <p:cNvSpPr/>
          <p:nvPr/>
        </p:nvSpPr>
        <p:spPr>
          <a:xfrm>
            <a:off x="547560" y="2846520"/>
            <a:ext cx="5977080" cy="93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ДАЧА ОКОНЧАТЕЛЬНЫХ ПРЕДЛОЖЕНИЙ ПО Ц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  <a:ea typeface="Calibri"/>
              </a:rPr>
              <a:t>протокол формируется оператором ЭП в течение 1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9"/>
          <p:cNvSpPr/>
          <p:nvPr/>
        </p:nvSpPr>
        <p:spPr>
          <a:xfrm>
            <a:off x="6732720" y="2886120"/>
            <a:ext cx="2158920" cy="7920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ЧЕРЕЗ 1 Р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Блок-схема: решение 20"/>
          <p:cNvSpPr/>
          <p:nvPr/>
        </p:nvSpPr>
        <p:spPr>
          <a:xfrm>
            <a:off x="6372360" y="360360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Блок-схема: решение 21"/>
          <p:cNvSpPr/>
          <p:nvPr/>
        </p:nvSpPr>
        <p:spPr>
          <a:xfrm>
            <a:off x="6372360" y="432288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2"/>
          <p:cNvSpPr/>
          <p:nvPr/>
        </p:nvSpPr>
        <p:spPr>
          <a:xfrm>
            <a:off x="539640" y="3827520"/>
            <a:ext cx="5977080" cy="9349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ССМОТРЕНИЕ И ОЦЕНКА ВТОРЫХ ЧАСТЕЙ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  <a:ea typeface="Calibri"/>
              </a:rPr>
              <a:t>протокол подписывается и в тот же день направляется оператору 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23"/>
          <p:cNvSpPr/>
          <p:nvPr/>
        </p:nvSpPr>
        <p:spPr>
          <a:xfrm>
            <a:off x="6732720" y="378288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ДО 3 Р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р.д. - до 1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 р.д. – наука, искусство, куль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Блок-схема: решение 24"/>
          <p:cNvSpPr/>
          <p:nvPr/>
        </p:nvSpPr>
        <p:spPr>
          <a:xfrm>
            <a:off x="6372360" y="457524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Блок-схема: решение 25"/>
          <p:cNvSpPr/>
          <p:nvPr/>
        </p:nvSpPr>
        <p:spPr>
          <a:xfrm>
            <a:off x="6372360" y="5295960"/>
            <a:ext cx="287280" cy="21600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6"/>
          <p:cNvSpPr/>
          <p:nvPr/>
        </p:nvSpPr>
        <p:spPr>
          <a:xfrm>
            <a:off x="539640" y="4800600"/>
            <a:ext cx="59770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ЕДЕНИЕ ИТО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протокол подписывается, размещается в ЕИС и в тот же день направляется оператору 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7"/>
          <p:cNvSpPr/>
          <p:nvPr/>
        </p:nvSpPr>
        <p:spPr>
          <a:xfrm>
            <a:off x="6732720" y="486396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СЛЕДУЮЩИЙ Р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Блок-схема: решение 28"/>
          <p:cNvSpPr/>
          <p:nvPr/>
        </p:nvSpPr>
        <p:spPr>
          <a:xfrm>
            <a:off x="6372360" y="5546880"/>
            <a:ext cx="287280" cy="2174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Блок-схема: решение 29"/>
          <p:cNvSpPr/>
          <p:nvPr/>
        </p:nvSpPr>
        <p:spPr>
          <a:xfrm>
            <a:off x="6372360" y="6267600"/>
            <a:ext cx="287280" cy="215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0"/>
          <p:cNvSpPr/>
          <p:nvPr/>
        </p:nvSpPr>
        <p:spPr>
          <a:xfrm>
            <a:off x="539640" y="5824440"/>
            <a:ext cx="5977080" cy="936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Arial"/>
              </a:rPr>
              <a:t>сведения в реестр контрактов – 5 р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31"/>
          <p:cNvSpPr/>
          <p:nvPr/>
        </p:nvSpPr>
        <p:spPr>
          <a:xfrm>
            <a:off x="6732720" y="5897520"/>
            <a:ext cx="2158920" cy="79236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Е МЕНЕЕ 11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19080"/>
            <a:ext cx="52196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ЗАЯВКИ (КОНКУРС + АУКЦИОН)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2200" y="102060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МЦК свыше 5 млн ру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тельство – право установить иной порог (1 млн руб., ПП РФ от 12.04.2018 N4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5 – 1 % (НМЦК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20 млн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5 - 5 % (НМЦК свыше 20 млн руле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5 – 2 % (НМЦК свыше 20 млн рублей + О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ИС (ст. 28, 29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зенных учреждений -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исьмо Минфин России от 23.05.2018 № 24-02-05/349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1-5 млн. руб. – «по аналогии пра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а с победителя – 1% от НМЦ,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больше 5000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больше 2000 руб. - для СМСП и СО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клонении победителя второй участник - не плат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32-конечная звезда 3"/>
          <p:cNvSpPr/>
          <p:nvPr/>
        </p:nvSpPr>
        <p:spPr>
          <a:xfrm>
            <a:off x="5364000" y="50760"/>
            <a:ext cx="719280" cy="647640"/>
          </a:xfrm>
          <a:custGeom>
            <a:avLst/>
            <a:gdLst>
              <a:gd name="textAreaLeft" fmla="*/ 164160 w 719280"/>
              <a:gd name="textAreaRight" fmla="*/ 555120 w 7192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7"/>
          <p:cNvSpPr/>
          <p:nvPr/>
        </p:nvSpPr>
        <p:spPr>
          <a:xfrm>
            <a:off x="5388120" y="25236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0"/>
          <p:cNvSpPr/>
          <p:nvPr/>
        </p:nvSpPr>
        <p:spPr>
          <a:xfrm>
            <a:off x="2480400" y="250020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080" y="38160"/>
            <a:ext cx="51642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ЗАЯВОК. СПЕЦСЧЕТА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4" name="32-конечная звезда 3"/>
          <p:cNvSpPr/>
          <p:nvPr/>
        </p:nvSpPr>
        <p:spPr>
          <a:xfrm>
            <a:off x="5346720" y="50760"/>
            <a:ext cx="719280" cy="647640"/>
          </a:xfrm>
          <a:custGeom>
            <a:avLst/>
            <a:gdLst>
              <a:gd name="textAreaLeft" fmla="*/ 164160 w 719280"/>
              <a:gd name="textAreaRight" fmla="*/ 555120 w 7192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27"/>
          <p:cNvSpPr/>
          <p:nvPr/>
        </p:nvSpPr>
        <p:spPr>
          <a:xfrm>
            <a:off x="5354640" y="22860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"/>
          <p:cNvSpPr/>
          <p:nvPr/>
        </p:nvSpPr>
        <p:spPr>
          <a:xfrm>
            <a:off x="876240" y="1374840"/>
            <a:ext cx="2735280" cy="7189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6"/>
          <p:cNvSpPr/>
          <p:nvPr/>
        </p:nvSpPr>
        <p:spPr>
          <a:xfrm>
            <a:off x="3324240" y="2638440"/>
            <a:ext cx="2735280" cy="720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7"/>
          <p:cNvSpPr/>
          <p:nvPr/>
        </p:nvSpPr>
        <p:spPr>
          <a:xfrm>
            <a:off x="5794200" y="1374840"/>
            <a:ext cx="2735280" cy="7189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13"/>
          <p:cNvSpPr/>
          <p:nvPr/>
        </p:nvSpPr>
        <p:spPr>
          <a:xfrm>
            <a:off x="6798960" y="250020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Прямая со стрелкой 12"/>
          <p:cNvCxnSpPr/>
          <p:nvPr/>
        </p:nvCxnSpPr>
        <p:spPr>
          <a:xfrm>
            <a:off x="2511000" y="2139480"/>
            <a:ext cx="778680" cy="639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1" name="Прямая со стрелкой 17"/>
          <p:cNvCxnSpPr/>
          <p:nvPr/>
        </p:nvCxnSpPr>
        <p:spPr>
          <a:xfrm flipV="1">
            <a:off x="6094080" y="2139120"/>
            <a:ext cx="803880" cy="63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2" name="Прямоугольник 25"/>
          <p:cNvSpPr/>
          <p:nvPr/>
        </p:nvSpPr>
        <p:spPr>
          <a:xfrm>
            <a:off x="2586600" y="534024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6"/>
          <p:cNvSpPr/>
          <p:nvPr/>
        </p:nvSpPr>
        <p:spPr>
          <a:xfrm>
            <a:off x="982800" y="4213080"/>
            <a:ext cx="2735280" cy="720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7"/>
          <p:cNvSpPr/>
          <p:nvPr/>
        </p:nvSpPr>
        <p:spPr>
          <a:xfrm>
            <a:off x="3430440" y="5478480"/>
            <a:ext cx="2737080" cy="719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8"/>
          <p:cNvSpPr/>
          <p:nvPr/>
        </p:nvSpPr>
        <p:spPr>
          <a:xfrm>
            <a:off x="5900760" y="4213080"/>
            <a:ext cx="2735280" cy="7207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1"/>
          <p:cNvSpPr/>
          <p:nvPr/>
        </p:nvSpPr>
        <p:spPr>
          <a:xfrm>
            <a:off x="4622760" y="4616280"/>
            <a:ext cx="3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Arial"/>
              </a:rPr>
              <a:t>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Прямая со стрелкой 32"/>
          <p:cNvCxnSpPr/>
          <p:nvPr/>
        </p:nvCxnSpPr>
        <p:spPr>
          <a:xfrm>
            <a:off x="2617920" y="4979520"/>
            <a:ext cx="778320" cy="637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8" name="Прямая со стрелкой 33"/>
          <p:cNvCxnSpPr/>
          <p:nvPr/>
        </p:nvCxnSpPr>
        <p:spPr>
          <a:xfrm flipV="1">
            <a:off x="6200640" y="4979160"/>
            <a:ext cx="80424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9" name="Прямая со стрелкой 24"/>
          <p:cNvCxnSpPr>
            <a:stCxn id="416" idx="2"/>
            <a:endCxn id="417" idx="1"/>
          </p:cNvCxnSpPr>
          <p:nvPr/>
        </p:nvCxnSpPr>
        <p:spPr>
          <a:xfrm>
            <a:off x="2242800" y="2093760"/>
            <a:ext cx="1081800" cy="90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0" name="Прямая со стрелкой 35"/>
          <p:cNvCxnSpPr>
            <a:endCxn id="418" idx="2"/>
          </p:cNvCxnSpPr>
          <p:nvPr/>
        </p:nvCxnSpPr>
        <p:spPr>
          <a:xfrm flipV="1">
            <a:off x="6094080" y="2093040"/>
            <a:ext cx="1067400" cy="90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1" name="Прямая со стрелкой 38"/>
          <p:cNvCxnSpPr>
            <a:stCxn id="423" idx="3"/>
            <a:endCxn id="425" idx="1"/>
          </p:cNvCxnSpPr>
          <p:nvPr/>
        </p:nvCxnSpPr>
        <p:spPr>
          <a:xfrm>
            <a:off x="3717720" y="4573080"/>
            <a:ext cx="2183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2" name="TextBox 40"/>
          <p:cNvSpPr/>
          <p:nvPr/>
        </p:nvSpPr>
        <p:spPr>
          <a:xfrm>
            <a:off x="395280" y="915840"/>
            <a:ext cx="81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 ИЗМЕНЕНИЙ – ЛИЦЕВОЙ СЧЕТ ОТКРЫТЫЙ 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3"/>
          <p:cNvSpPr/>
          <p:nvPr/>
        </p:nvSpPr>
        <p:spPr>
          <a:xfrm>
            <a:off x="517680" y="3736800"/>
            <a:ext cx="81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ЛЕ ИЗМЕНЕНИЙ – СПЕЦСЧЕТ В БА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055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П РФ от 13.07.18 №1451-р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ЧЕНЬ БАНКОВ ДЛЯ ОТКРЫТИЯ СПЕЦСЧЕТОВ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5" name="Picture 20" descr="sber-logo.png"/>
          <p:cNvPicPr/>
          <p:nvPr/>
        </p:nvPicPr>
        <p:blipFill>
          <a:blip r:embed="rId1"/>
          <a:stretch/>
        </p:blipFill>
        <p:spPr>
          <a:xfrm>
            <a:off x="449280" y="1108080"/>
            <a:ext cx="1776240" cy="542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5" descr="2000px-VTB_Logo_2018.svg.png"/>
          <p:cNvPicPr/>
          <p:nvPr/>
        </p:nvPicPr>
        <p:blipFill>
          <a:blip r:embed="rId2"/>
          <a:stretch/>
        </p:blipFill>
        <p:spPr>
          <a:xfrm>
            <a:off x="2752560" y="1185840"/>
            <a:ext cx="789120" cy="282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2bc809299e6b6e2b93979cf621cdcc0d.png"/>
          <p:cNvPicPr/>
          <p:nvPr/>
        </p:nvPicPr>
        <p:blipFill>
          <a:blip r:embed="rId3"/>
          <a:stretch/>
        </p:blipFill>
        <p:spPr>
          <a:xfrm>
            <a:off x="6532560" y="1055520"/>
            <a:ext cx="2336760" cy="552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logo_gazprombank.png"/>
          <p:cNvPicPr/>
          <p:nvPr/>
        </p:nvPicPr>
        <p:blipFill>
          <a:blip r:embed="rId4"/>
          <a:stretch/>
        </p:blipFill>
        <p:spPr>
          <a:xfrm>
            <a:off x="4068720" y="1189080"/>
            <a:ext cx="1935360" cy="407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6" descr="alpha_logo.png"/>
          <p:cNvPicPr/>
          <p:nvPr/>
        </p:nvPicPr>
        <p:blipFill>
          <a:blip r:embed="rId5"/>
          <a:stretch/>
        </p:blipFill>
        <p:spPr>
          <a:xfrm>
            <a:off x="395280" y="2251080"/>
            <a:ext cx="3705120" cy="7142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rosbank_logo_190.png"/>
          <p:cNvPicPr/>
          <p:nvPr/>
        </p:nvPicPr>
        <p:blipFill>
          <a:blip r:embed="rId6"/>
          <a:stretch/>
        </p:blipFill>
        <p:spPr>
          <a:xfrm>
            <a:off x="812880" y="2978280"/>
            <a:ext cx="1109520" cy="1109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3" descr="1280px-Raiffeisen_Bank.svg.png"/>
          <p:cNvPicPr/>
          <p:nvPr/>
        </p:nvPicPr>
        <p:blipFill>
          <a:blip r:embed="rId7"/>
          <a:stretch/>
        </p:blipFill>
        <p:spPr>
          <a:xfrm>
            <a:off x="6905520" y="2144880"/>
            <a:ext cx="1478160" cy="395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fko2-570x189.png"/>
          <p:cNvPicPr/>
          <p:nvPr/>
        </p:nvPicPr>
        <p:blipFill>
          <a:blip r:embed="rId8"/>
          <a:stretch/>
        </p:blipFill>
        <p:spPr>
          <a:xfrm>
            <a:off x="4770360" y="2343240"/>
            <a:ext cx="1303560" cy="431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5" descr="logo-mkb.png"/>
          <p:cNvPicPr/>
          <p:nvPr/>
        </p:nvPicPr>
        <p:blipFill>
          <a:blip r:embed="rId9"/>
          <a:stretch/>
        </p:blipFill>
        <p:spPr>
          <a:xfrm>
            <a:off x="2871720" y="2054160"/>
            <a:ext cx="1231920" cy="924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BankSPB_logo_final_small.png"/>
          <p:cNvPicPr/>
          <p:nvPr/>
        </p:nvPicPr>
        <p:blipFill>
          <a:blip r:embed="rId10"/>
          <a:stretch/>
        </p:blipFill>
        <p:spPr>
          <a:xfrm>
            <a:off x="1368360" y="437040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bank-russia.png"/>
          <p:cNvPicPr/>
          <p:nvPr/>
        </p:nvPicPr>
        <p:blipFill>
          <a:blip r:embed="rId11"/>
          <a:stretch/>
        </p:blipFill>
        <p:spPr>
          <a:xfrm>
            <a:off x="6715080" y="2608200"/>
            <a:ext cx="1970280" cy="1576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logo-vbrr.gif"/>
          <p:cNvPicPr/>
          <p:nvPr/>
        </p:nvPicPr>
        <p:blipFill>
          <a:blip r:embed="rId12"/>
          <a:stretch/>
        </p:blipFill>
        <p:spPr>
          <a:xfrm>
            <a:off x="2714760" y="3198960"/>
            <a:ext cx="1136520" cy="7398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1534333363_d3134567fa45ad457f86bf136cfb5d9e.png"/>
          <p:cNvPicPr/>
          <p:nvPr/>
        </p:nvPicPr>
        <p:blipFill>
          <a:blip r:embed="rId13"/>
          <a:stretch/>
        </p:blipFill>
        <p:spPr>
          <a:xfrm>
            <a:off x="4316400" y="3178080"/>
            <a:ext cx="1873440" cy="478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1990.png"/>
          <p:cNvPicPr/>
          <p:nvPr/>
        </p:nvPicPr>
        <p:blipFill>
          <a:blip r:embed="rId14"/>
          <a:stretch/>
        </p:blipFill>
        <p:spPr>
          <a:xfrm>
            <a:off x="3867120" y="5405400"/>
            <a:ext cx="1595520" cy="682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1417800029_logo-zelenoe.png"/>
          <p:cNvPicPr/>
          <p:nvPr/>
        </p:nvPicPr>
        <p:blipFill>
          <a:blip r:embed="rId15"/>
          <a:stretch/>
        </p:blipFill>
        <p:spPr>
          <a:xfrm>
            <a:off x="6600960" y="4475160"/>
            <a:ext cx="1100160" cy="252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2" descr="sovkombank-logo.png"/>
          <p:cNvPicPr/>
          <p:nvPr/>
        </p:nvPicPr>
        <p:blipFill>
          <a:blip r:embed="rId16"/>
          <a:stretch/>
        </p:blipFill>
        <p:spPr>
          <a:xfrm>
            <a:off x="3927600" y="4446720"/>
            <a:ext cx="1198440" cy="450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4" descr="mat_94463.png"/>
          <p:cNvPicPr/>
          <p:nvPr/>
        </p:nvPicPr>
        <p:blipFill>
          <a:blip r:embed="rId17"/>
          <a:stretch/>
        </p:blipFill>
        <p:spPr>
          <a:xfrm>
            <a:off x="1295280" y="5489640"/>
            <a:ext cx="1176480" cy="604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" descr="unicreditbank-logo-telefon.png"/>
          <p:cNvPicPr/>
          <p:nvPr/>
        </p:nvPicPr>
        <p:blipFill>
          <a:blip r:embed="rId18"/>
          <a:stretch/>
        </p:blipFill>
        <p:spPr>
          <a:xfrm>
            <a:off x="6367320" y="5549760"/>
            <a:ext cx="2038320" cy="39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920" y="25560"/>
            <a:ext cx="5905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ЗАЯВОК. СПЕЦСЧЕТА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4560" y="890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ПП 30.05.2018 № 6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(вступило в си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с 1 июля 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договору спецсчета и порядку использования имеющегося у участника закупки банковского счета в качестве спецсч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условиям соглашения о взаимодействии оператора ЭП с банк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взаимодействия УЗ, оператора ЭП и заказчика в случае предоставления обеспеч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виде Б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ступают в силу с 1 июля 2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счета – с 01.10.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32-конечная звезда 3"/>
          <p:cNvSpPr/>
          <p:nvPr/>
        </p:nvSpPr>
        <p:spPr>
          <a:xfrm>
            <a:off x="5940360" y="31680"/>
            <a:ext cx="719280" cy="647640"/>
          </a:xfrm>
          <a:custGeom>
            <a:avLst/>
            <a:gdLst>
              <a:gd name="textAreaLeft" fmla="*/ 164160 w 719280"/>
              <a:gd name="textAreaRight" fmla="*/ 555120 w 7192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7"/>
          <p:cNvSpPr/>
          <p:nvPr/>
        </p:nvSpPr>
        <p:spPr>
          <a:xfrm>
            <a:off x="5943600" y="228600"/>
            <a:ext cx="7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 01.07.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5977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Й В РАБОТЕ ОПЕРАТОР-БАНК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5480" y="88704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алоб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тор вернул заявку из-за отсутствия средств на спецсч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жалобы Заявителя следует, что Заявителем открыт специальный счет в АО «Альфа-Банк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дениям банковской выписки по счету Заявителя, представленной в составе жалобы, по состоянию на дату окончания подачи заявок на специальном счету Заявителя имелся необходимый размер незаблокированных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 ФА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менить протокол рассмотр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начить время проведения Аукциона, разместить информацию о времени проведения Аукциона, уведомить Заявителя о новой дате окончания срока подачи заяв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АС о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01.20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лу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№ 19/44/105/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2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24360" y="115920"/>
            <a:ext cx="6999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СОЗДАНИИ ЕДИНОГО АГРЕГАТОРА ТОРГОВЛИ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456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РП РФ от 28 апреля 2018 г. № 824-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енциальные поставщики (подрядчики, исполнители) будут размещать свои предложения, а заказчики - выбирать наиболее выгод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1 июля пилотный проект будет реализован на добровольной основе в отношении закупок на сумму не бол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0 тыс. рублей на основании п. 4 ч. 1 ст. 93 Закона N 44-Ф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00 тыс. рублей в соответствии с п. 5 ч. 1 ст. 93 Закона N 44-Ф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0 тыс. рублей на основании п. 28 ч. 1 ст. 93 Закона N 44-ФЗ (закупка лекарств, которые предназначены конкретному пациенту при наличии медицинских показа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1 октября канцтовары, с 1 марта – ФОИВ (за исключением случаев, когда цена контракта, заключенного без использования агрегатора, будет ниже цены, по которой контракт мог быть заключен с его использованием) и подведомственные федеральные казенные учреждения (кроме гостай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комендовано - органам власти субъектов РФ и органам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бязаны использовать агрегатор ФОИВ и подведомственные (оборона, безопасность).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716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ряжение Правительства РФ от 27.10.2018 N 2326-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проведения основных закупок в ЕАТ "Березка" перенесли на 1 марта 201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 ноября ФОИВ и их казенные учреждения должны закупать через ЕАТ только канцелярские товары по п. п. 4 и 5 ч. 1 ст. 93 Закона N 44-Ф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ен перечень заказчиков, которые не должны проводить закупки через ЕАТ - федеральные органы, проводящие закупки для администрации президента и аппарата прав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АТ не используют не только при гостайне но и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луг, которые оказывают физлица без оформления И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территории иностранных государств для нужд заказчиков, осуществляющих деятельность за рубеж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4560" y="691920"/>
            <a:ext cx="9109080" cy="5832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"/>
          <p:cNvPicPr/>
          <p:nvPr/>
        </p:nvPicPr>
        <p:blipFill>
          <a:blip r:embed="rId2"/>
          <a:stretch/>
        </p:blipFill>
        <p:spPr>
          <a:xfrm>
            <a:off x="34920" y="22320"/>
            <a:ext cx="6521400" cy="633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3800" y="85680"/>
            <a:ext cx="69102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ПЛАНИРОВАНИЯ ДЛЯ ФЕДЕРАЛЬНЫХ ЗАКАЗЧИКОВ, ВКЛЮЧАЯ ФГБУ и ФАУ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36F-46D5-4891-B444-2BD3AE48D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044880" y="2597040"/>
            <a:ext cx="2881080" cy="115092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3044880" y="4005360"/>
            <a:ext cx="2881080" cy="1152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-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6"/>
          <p:cNvSpPr/>
          <p:nvPr/>
        </p:nvSpPr>
        <p:spPr>
          <a:xfrm>
            <a:off x="509760" y="2565360"/>
            <a:ext cx="1873080" cy="259236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592360"/>
              <a:gd name="textAreaBottom" fmla="*/ 2500920 h 2592360"/>
            </a:gdLst>
            <a:ahLst/>
            <a:rect l="textAreaLeft" t="textAreaTop" r="textAreaRight" b="textAreaBottom"/>
            <a:pathLst>
              <a:path w="21600" h="29893">
                <a:moveTo>
                  <a:pt x="3600" y="0"/>
                </a:moveTo>
                <a:arcTo wR="3600" hR="3600" stAng="16200000" swAng="-5400000"/>
                <a:lnTo>
                  <a:pt x="0" y="26293"/>
                </a:lnTo>
                <a:arcTo wR="3600" hR="3600" stAng="10800000" swAng="-5400000"/>
                <a:lnTo>
                  <a:pt x="18000" y="298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7"/>
          <p:cNvSpPr/>
          <p:nvPr/>
        </p:nvSpPr>
        <p:spPr>
          <a:xfrm>
            <a:off x="6588000" y="2565360"/>
            <a:ext cx="1871640" cy="259236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2592360"/>
              <a:gd name="textAreaBottom" fmla="*/ 2501280 h 2592360"/>
            </a:gdLst>
            <a:ahLst/>
            <a:rect l="textAreaLeft" t="textAreaTop" r="textAreaRight" b="textAreaBottom"/>
            <a:pathLst>
              <a:path w="21600" h="29916">
                <a:moveTo>
                  <a:pt x="3600" y="0"/>
                </a:moveTo>
                <a:arcTo wR="3600" hR="3600" stAng="16200000" swAng="-5400000"/>
                <a:lnTo>
                  <a:pt x="0" y="26316"/>
                </a:lnTo>
                <a:arcTo wR="3600" hR="3600" stAng="10800000" swAng="-5400000"/>
                <a:lnTo>
                  <a:pt x="18000" y="299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С Э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8"/>
          <p:cNvSpPr/>
          <p:nvPr/>
        </p:nvSpPr>
        <p:spPr>
          <a:xfrm>
            <a:off x="6140520" y="3683160"/>
            <a:ext cx="2872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10"/>
          <p:cNvSpPr/>
          <p:nvPr/>
        </p:nvSpPr>
        <p:spPr>
          <a:xfrm flipH="1">
            <a:off x="2596320" y="3683160"/>
            <a:ext cx="289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6408720" y="1430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2019 финансовый год и на плановый период 2020-20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2525760" y="34765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6315840" y="55897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http://ebudget.minfin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38160"/>
            <a:ext cx="5905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ЖАЛОВАНИЕ В 2018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4560" y="691920"/>
            <a:ext cx="9109080" cy="58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Объект 3"/>
          <p:cNvGraphicFramePr/>
          <p:nvPr/>
        </p:nvGraphicFramePr>
        <p:xfrm>
          <a:off x="179280" y="1341360"/>
          <a:ext cx="8798040" cy="45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7980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Скругленный прямоугольник 12"/>
          <p:cNvSpPr/>
          <p:nvPr/>
        </p:nvSpPr>
        <p:spPr>
          <a:xfrm>
            <a:off x="85680" y="923760"/>
            <a:ext cx="6759720" cy="3144960"/>
          </a:xfrm>
          <a:prstGeom prst="roundRect">
            <a:avLst>
              <a:gd name="adj" fmla="val 16667"/>
            </a:avLst>
          </a:prstGeom>
          <a:solidFill>
            <a:srgbClr val="fcfbf9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кругленный прямоугольник 11"/>
          <p:cNvSpPr/>
          <p:nvPr/>
        </p:nvSpPr>
        <p:spPr>
          <a:xfrm>
            <a:off x="169920" y="1152360"/>
            <a:ext cx="6626160" cy="273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АКТНАЯ СИСТЕМА. ПЛАНЫ МИНФИН НА 2019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Скругленный прямоугольник 3"/>
          <p:cNvSpPr/>
          <p:nvPr/>
        </p:nvSpPr>
        <p:spPr>
          <a:xfrm>
            <a:off x="385920" y="2232000"/>
            <a:ext cx="1873080" cy="6523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Скругленный прямоугольник 4"/>
          <p:cNvSpPr/>
          <p:nvPr/>
        </p:nvSpPr>
        <p:spPr>
          <a:xfrm>
            <a:off x="2530440" y="2251080"/>
            <a:ext cx="1871640" cy="6523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ПОСТАВ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кругленный прямоугольник 5"/>
          <p:cNvSpPr/>
          <p:nvPr/>
        </p:nvSpPr>
        <p:spPr>
          <a:xfrm>
            <a:off x="4734000" y="2243160"/>
            <a:ext cx="1873080" cy="6523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Скругленный прямоугольник 6"/>
          <p:cNvSpPr/>
          <p:nvPr/>
        </p:nvSpPr>
        <p:spPr>
          <a:xfrm>
            <a:off x="2482920" y="1477800"/>
            <a:ext cx="1871640" cy="6526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Скругленный прямоугольник 7"/>
          <p:cNvSpPr/>
          <p:nvPr/>
        </p:nvSpPr>
        <p:spPr>
          <a:xfrm>
            <a:off x="1185840" y="3005280"/>
            <a:ext cx="1873440" cy="6523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8"/>
          <p:cNvSpPr/>
          <p:nvPr/>
        </p:nvSpPr>
        <p:spPr>
          <a:xfrm>
            <a:off x="3929040" y="2989440"/>
            <a:ext cx="1874880" cy="6523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У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трелка вправо 9"/>
          <p:cNvSpPr/>
          <p:nvPr/>
        </p:nvSpPr>
        <p:spPr>
          <a:xfrm>
            <a:off x="2306520" y="2508120"/>
            <a:ext cx="176400" cy="1396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право 10"/>
          <p:cNvSpPr/>
          <p:nvPr/>
        </p:nvSpPr>
        <p:spPr>
          <a:xfrm>
            <a:off x="4479840" y="2489040"/>
            <a:ext cx="176400" cy="1400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385920" y="1135080"/>
            <a:ext cx="54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ИС, М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385920" y="890640"/>
            <a:ext cx="54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5"/>
          <p:cNvSpPr/>
          <p:nvPr/>
        </p:nvSpPr>
        <p:spPr>
          <a:xfrm>
            <a:off x="6970680" y="876240"/>
            <a:ext cx="2084400" cy="8589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ОЛНЕНИЕ КТ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6"/>
          <p:cNvSpPr/>
          <p:nvPr/>
        </p:nvSpPr>
        <p:spPr>
          <a:xfrm>
            <a:off x="6980400" y="1847880"/>
            <a:ext cx="2082600" cy="8748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01.03.19 ПРОВЕРКА 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7"/>
          <p:cNvSpPr/>
          <p:nvPr/>
        </p:nvSpPr>
        <p:spPr>
          <a:xfrm>
            <a:off x="6980400" y="2933640"/>
            <a:ext cx="2082600" cy="12765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ТИПОВЫЕ КОНТРАКТЫ И ТУ КОНТР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18"/>
          <p:cNvSpPr/>
          <p:nvPr/>
        </p:nvSpPr>
        <p:spPr>
          <a:xfrm>
            <a:off x="6948360" y="4425840"/>
            <a:ext cx="2084400" cy="11430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ФОРМ ТИПОВЫХ КОНТРА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19"/>
          <p:cNvSpPr/>
          <p:nvPr/>
        </p:nvSpPr>
        <p:spPr>
          <a:xfrm>
            <a:off x="4705200" y="4425840"/>
            <a:ext cx="2090880" cy="11430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КУПКА ПО ЦЕНЕ ЕДИНИЦЫ БЕЗ ОГРАНИЧЕНИЙ ПРЕМЕТА ЗАК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20"/>
          <p:cNvSpPr/>
          <p:nvPr/>
        </p:nvSpPr>
        <p:spPr>
          <a:xfrm>
            <a:off x="2502000" y="4421160"/>
            <a:ext cx="2084400" cy="112572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НА КОНТРАКТ С №2 ПРИ РАСТОР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1"/>
          <p:cNvSpPr/>
          <p:nvPr/>
        </p:nvSpPr>
        <p:spPr>
          <a:xfrm>
            <a:off x="299880" y="4411800"/>
            <a:ext cx="2082960" cy="11253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АКТ ПО СОГЛАСОВАНИЮ ПРИ ЗАКУПКЕ БЕЗ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2"/>
          <p:cNvSpPr/>
          <p:nvPr/>
        </p:nvSpPr>
        <p:spPr>
          <a:xfrm>
            <a:off x="299880" y="5724360"/>
            <a:ext cx="2082960" cy="10083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ЫЙ ПЛАНОВЫЙ ДОК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4"/>
          <p:cNvSpPr/>
          <p:nvPr/>
        </p:nvSpPr>
        <p:spPr>
          <a:xfrm>
            <a:off x="2502000" y="5705640"/>
            <a:ext cx="2082600" cy="10080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ЛАНИРОВАНИЕ ДЕТАЛЕЙ ЗАКУПКИ ЗА 3 МЕСЯ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5"/>
          <p:cNvSpPr/>
          <p:nvPr/>
        </p:nvSpPr>
        <p:spPr>
          <a:xfrm>
            <a:off x="4713120" y="5722920"/>
            <a:ext cx="4319640" cy="10080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ЗАПРОСА ПРЕДЛОЖЕНИЙ, ТОЛЬКО ОДИН УНИВЕРСАЛЬНЫЙ ВИД КОН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12"/>
          <p:cNvSpPr/>
          <p:nvPr/>
        </p:nvSpPr>
        <p:spPr>
          <a:xfrm>
            <a:off x="108000" y="816120"/>
            <a:ext cx="6759360" cy="3144600"/>
          </a:xfrm>
          <a:prstGeom prst="roundRect">
            <a:avLst>
              <a:gd name="adj" fmla="val 16667"/>
            </a:avLst>
          </a:prstGeom>
          <a:solidFill>
            <a:srgbClr val="fcfbf9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кругленный прямоугольник 11"/>
          <p:cNvSpPr/>
          <p:nvPr/>
        </p:nvSpPr>
        <p:spPr>
          <a:xfrm>
            <a:off x="169920" y="1152360"/>
            <a:ext cx="6626160" cy="273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2560" y="49320"/>
            <a:ext cx="67435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АКТНАЯ СИСТЕМА. ПЛАНЫ КАЗНАЧЕЙСТВА НА ПЕРВУЮ ПОЛОВИНУ 2019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Скругленный прямоугольник 3"/>
          <p:cNvSpPr/>
          <p:nvPr/>
        </p:nvSpPr>
        <p:spPr>
          <a:xfrm>
            <a:off x="385920" y="2232000"/>
            <a:ext cx="1873080" cy="6523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Скругленный прямоугольник 4"/>
          <p:cNvSpPr/>
          <p:nvPr/>
        </p:nvSpPr>
        <p:spPr>
          <a:xfrm>
            <a:off x="2530440" y="2251080"/>
            <a:ext cx="1871640" cy="6523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ОР ПОСТАВ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ый прямоугольник 5"/>
          <p:cNvSpPr/>
          <p:nvPr/>
        </p:nvSpPr>
        <p:spPr>
          <a:xfrm>
            <a:off x="4734000" y="2243160"/>
            <a:ext cx="1873080" cy="6523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 КОН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кругленный прямоугольник 6"/>
          <p:cNvSpPr/>
          <p:nvPr/>
        </p:nvSpPr>
        <p:spPr>
          <a:xfrm>
            <a:off x="2482920" y="1477800"/>
            <a:ext cx="1871640" cy="6526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кругленный прямоугольник 7"/>
          <p:cNvSpPr/>
          <p:nvPr/>
        </p:nvSpPr>
        <p:spPr>
          <a:xfrm>
            <a:off x="1185840" y="3005280"/>
            <a:ext cx="1873440" cy="6523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Скругленный прямоугольник 8"/>
          <p:cNvSpPr/>
          <p:nvPr/>
        </p:nvSpPr>
        <p:spPr>
          <a:xfrm>
            <a:off x="3929040" y="2989440"/>
            <a:ext cx="1874880" cy="6523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У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Стрелка вправо 9"/>
          <p:cNvSpPr/>
          <p:nvPr/>
        </p:nvSpPr>
        <p:spPr>
          <a:xfrm>
            <a:off x="2306520" y="2508120"/>
            <a:ext cx="176400" cy="1396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трелка вправо 10"/>
          <p:cNvSpPr/>
          <p:nvPr/>
        </p:nvSpPr>
        <p:spPr>
          <a:xfrm>
            <a:off x="4479840" y="2489040"/>
            <a:ext cx="176400" cy="1400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385920" y="1135080"/>
            <a:ext cx="54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ИС, М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4"/>
          <p:cNvSpPr/>
          <p:nvPr/>
        </p:nvSpPr>
        <p:spPr>
          <a:xfrm>
            <a:off x="368280" y="809640"/>
            <a:ext cx="54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5"/>
          <p:cNvSpPr/>
          <p:nvPr/>
        </p:nvSpPr>
        <p:spPr>
          <a:xfrm>
            <a:off x="6961320" y="934920"/>
            <a:ext cx="2084400" cy="157320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Е АКТИРОВАНИЕ В Е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6"/>
          <p:cNvSpPr/>
          <p:nvPr/>
        </p:nvSpPr>
        <p:spPr>
          <a:xfrm>
            <a:off x="6961320" y="2612880"/>
            <a:ext cx="2084400" cy="147636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УПРАВЛЕНИЯ ИНЦИДЕНТАМИ В ЛК пользователя Е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4656240" y="4141800"/>
            <a:ext cx="4365360" cy="112392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НАЧЕЙСКОЕ СОПРОВОЖДЕНИЕ (1 этап) Подача заявок на открытие 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ЕИС и ЭБ (ПУ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1"/>
          <p:cNvSpPr/>
          <p:nvPr/>
        </p:nvSpPr>
        <p:spPr>
          <a:xfrm>
            <a:off x="250920" y="4141800"/>
            <a:ext cx="4305240" cy="112392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ОБНОВЛЕНИЙ - БЕЗ РЕГЛАМЕНТ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6"/>
          <p:cNvSpPr/>
          <p:nvPr/>
        </p:nvSpPr>
        <p:spPr>
          <a:xfrm>
            <a:off x="4648320" y="5372280"/>
            <a:ext cx="4365360" cy="112392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ЬНОЕ ПРИЛОЖЕНИЕ ДЛЯ ПОИСКА ЗАКУ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7"/>
          <p:cNvSpPr/>
          <p:nvPr/>
        </p:nvSpPr>
        <p:spPr>
          <a:xfrm>
            <a:off x="244440" y="5372280"/>
            <a:ext cx="4303800" cy="1123920"/>
          </a:xfrm>
          <a:prstGeom prst="rect">
            <a:avLst/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ЭТАПНАЯ АВТОМАТИЗАЦИЯ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 соответствие электронных актов денежным обязатель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нтеграция ЕИС с ПУР (АС ФК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97080" y="39240"/>
            <a:ext cx="77547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ЕНИЕ ФАС. ПЕРСПЕКТИВЫ РАЗВИТИЯ КОНТРОЛ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Доклад М. Евраева, январь 2019)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4560" y="691920"/>
            <a:ext cx="9109080" cy="58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7" name="Объект 4"/>
          <p:cNvGraphicFramePr/>
          <p:nvPr/>
        </p:nvGraphicFramePr>
        <p:xfrm>
          <a:off x="34920" y="1233360"/>
          <a:ext cx="9112320" cy="473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8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233360"/>
                    <a:ext cx="911232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696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МЕНЬШЕНИЕ И ЗАМЕНА ОБЕСПЕЧЕН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502-ФЗ)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01.07.2019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" y="1025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ФЗ от 27.12.2018 № 502-ФЗ с 27.12.201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обеспечения контракта по мере исполнения многоэтапного контра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щик сможет изменить способ обеспечения исполнения контракта и (или) представить взамен но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нность представить новое обеспечение исполнения контракта в случае отзыва лицензии у ба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7128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А ЗАКУПКИ У ЕП ПО РЕШЕНИЯ ПРЕЗИДЕНТА И ПРАВИТЕЛЬСТВ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836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N 518-Ф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вступает в силу 28.03.2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ирован порядок подготовки проектов президентских и правительственных актов о закупках у единственного поставщ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одготовки определяется правовым актом Президента РФ с указа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а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ельного срока, на который заключается контр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ности единственного поставщика исполнить свои обязательства по контракту лично или возможность привлечь к исполнению контракта субподрядч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е к объему исполнения единственным поставщиком своих обязательств по контракту л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определена обязанность заказчика установить требование обеспечения исполнения контр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252720" y="-7920"/>
            <a:ext cx="77547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. УСИЛЕНИЕ ТРЕБОВАНИЙ  ДЛЯ СЛОЖНОЙ СТРОЙК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изменений в ПП-1085 для закупок сложных строительных работ с НМЦК более 100 млн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ценки заявок - только один нестоимостной критер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ыт участника по успешному выполнению работ сопоставимого характера и сто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й показатель «стоимость самого крупного исполненного контракта» (значимость - не менее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ые показатели: суммарная стоимость и количество исполненных контр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ношение стоимостных и нестоимостных критериев для таких закупок: вместо 80 и 20% - 60 и 4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постановления Правительства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s://regulation.gov.ru/projects#npa=8776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https://koloro.ua/media/upload/images/blog/5%20jetapov%20sozdaniya%20brenda%20i%20razrabotka-jelementov-ego-dizajna/tehnicheskoe_zadanie.jpg"/>
          <p:cNvPicPr/>
          <p:nvPr/>
        </p:nvPicPr>
        <p:blipFill>
          <a:blip r:embed="rId1"/>
          <a:stretch/>
        </p:blipFill>
        <p:spPr>
          <a:xfrm>
            <a:off x="0" y="1773360"/>
            <a:ext cx="4756320" cy="28796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62560" y="2492280"/>
            <a:ext cx="4681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ПРАВИЛА ОПИСАНИЯ ОБЪЕКТА ЗАКУПОК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«ТЕХНИЧЕСКОЕ ЗАДАНИЕ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(СТАТЬЯ 33) 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3792600" y="1430280"/>
            <a:ext cx="3011400" cy="2457360"/>
          </a:xfrm>
          <a:prstGeom prst="rect">
            <a:avLst/>
          </a:prstGeom>
          <a:noFill/>
          <a:ln w="255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769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УЧЕТ НОРМ ЗАКОНОДАТЕЛЬСТВА О ТЕХРЕГУЛИРОВАНИИ И СТАНДАРТИЗАЦИИ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0" name="Прямоугольник 3"/>
          <p:cNvSpPr/>
          <p:nvPr/>
        </p:nvSpPr>
        <p:spPr>
          <a:xfrm>
            <a:off x="179280" y="847800"/>
            <a:ext cx="3214800" cy="57636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 ОБЪЕКТА ЗАК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539640" y="1628640"/>
            <a:ext cx="2880000" cy="57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539640" y="2384280"/>
            <a:ext cx="2880000" cy="57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ОНАЛЬНЫЕ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6"/>
          <p:cNvSpPr/>
          <p:nvPr/>
        </p:nvSpPr>
        <p:spPr>
          <a:xfrm>
            <a:off x="541440" y="3135240"/>
            <a:ext cx="2881080" cy="57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ЫЕ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8"/>
          <p:cNvSpPr/>
          <p:nvPr/>
        </p:nvSpPr>
        <p:spPr>
          <a:xfrm>
            <a:off x="257040" y="1430280"/>
            <a:ext cx="0" cy="486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9"/>
          <p:cNvSpPr/>
          <p:nvPr/>
        </p:nvSpPr>
        <p:spPr>
          <a:xfrm>
            <a:off x="250920" y="1916280"/>
            <a:ext cx="2887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17"/>
          <p:cNvSpPr/>
          <p:nvPr/>
        </p:nvSpPr>
        <p:spPr>
          <a:xfrm>
            <a:off x="254160" y="2673360"/>
            <a:ext cx="268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18"/>
          <p:cNvSpPr/>
          <p:nvPr/>
        </p:nvSpPr>
        <p:spPr>
          <a:xfrm>
            <a:off x="250920" y="3422520"/>
            <a:ext cx="268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9"/>
          <p:cNvSpPr/>
          <p:nvPr/>
        </p:nvSpPr>
        <p:spPr>
          <a:xfrm>
            <a:off x="3924360" y="1628640"/>
            <a:ext cx="2735280" cy="576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0"/>
          <p:cNvSpPr/>
          <p:nvPr/>
        </p:nvSpPr>
        <p:spPr>
          <a:xfrm>
            <a:off x="3924360" y="2384280"/>
            <a:ext cx="2735280" cy="576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21"/>
          <p:cNvSpPr/>
          <p:nvPr/>
        </p:nvSpPr>
        <p:spPr>
          <a:xfrm>
            <a:off x="3924360" y="3141720"/>
            <a:ext cx="2735280" cy="7635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НЫЕ ОБОЗНАЧЕНИЯ И ТЕРМИ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26"/>
          <p:cNvSpPr/>
          <p:nvPr/>
        </p:nvSpPr>
        <p:spPr>
          <a:xfrm>
            <a:off x="7211880" y="1622520"/>
            <a:ext cx="1800360" cy="5760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ЧЕСКИЕ РЕГЛА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27"/>
          <p:cNvSpPr/>
          <p:nvPr/>
        </p:nvSpPr>
        <p:spPr>
          <a:xfrm>
            <a:off x="7211880" y="2424240"/>
            <a:ext cx="1824120" cy="128736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Ы НАЦИОНАЛЬНОЙ СИСТЕМЫ СТАНДАРТ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трелка влево 29"/>
          <p:cNvSpPr/>
          <p:nvPr/>
        </p:nvSpPr>
        <p:spPr>
          <a:xfrm>
            <a:off x="3479760" y="2114640"/>
            <a:ext cx="357120" cy="11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трелка влево 30"/>
          <p:cNvSpPr/>
          <p:nvPr/>
        </p:nvSpPr>
        <p:spPr>
          <a:xfrm>
            <a:off x="6732720" y="2063880"/>
            <a:ext cx="357120" cy="11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ая соединительная линия 32"/>
          <p:cNvSpPr/>
          <p:nvPr/>
        </p:nvSpPr>
        <p:spPr>
          <a:xfrm>
            <a:off x="231840" y="4336920"/>
            <a:ext cx="307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3"/>
          <p:cNvSpPr/>
          <p:nvPr/>
        </p:nvSpPr>
        <p:spPr>
          <a:xfrm>
            <a:off x="539640" y="4049640"/>
            <a:ext cx="8471160" cy="57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ТРЕБОВАНИЯ, СВЯЗАННЫЕ С ОПРЕДЕЛЕНИЕМ СООТВЕТСТВИЯ ТРУ ПОТРЕБНОСТЯМ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Двойная стрелка вверх/вниз 34"/>
          <p:cNvSpPr/>
          <p:nvPr/>
        </p:nvSpPr>
        <p:spPr>
          <a:xfrm>
            <a:off x="4137120" y="4770360"/>
            <a:ext cx="720720" cy="89064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d99694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6"/>
          <p:cNvSpPr/>
          <p:nvPr/>
        </p:nvSpPr>
        <p:spPr>
          <a:xfrm>
            <a:off x="574560" y="5732640"/>
            <a:ext cx="8471160" cy="9363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ИЕ НЕОБХОДИМОСТИ ИСПОЛЬЗОВАНИЯ ДРУГИХ ПОКАЗАТЕЛЕЙ, ТРЕБОВАНИЙ, УСЛОВНЫХ ОБОЗНАЧЕНИЙ И ТЕРМИ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40"/>
          <p:cNvSpPr/>
          <p:nvPr/>
        </p:nvSpPr>
        <p:spPr>
          <a:xfrm flipH="1">
            <a:off x="246240" y="1884240"/>
            <a:ext cx="10800" cy="789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ая соединительная линия 44"/>
          <p:cNvSpPr/>
          <p:nvPr/>
        </p:nvSpPr>
        <p:spPr>
          <a:xfrm flipH="1">
            <a:off x="240840" y="2647800"/>
            <a:ext cx="9720" cy="789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45"/>
          <p:cNvSpPr/>
          <p:nvPr/>
        </p:nvSpPr>
        <p:spPr>
          <a:xfrm flipH="1">
            <a:off x="231840" y="3436920"/>
            <a:ext cx="9360" cy="900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49"/>
          <p:cNvSpPr/>
          <p:nvPr/>
        </p:nvSpPr>
        <p:spPr>
          <a:xfrm flipV="1">
            <a:off x="3792600" y="1423800"/>
            <a:ext cx="5218200" cy="2430360"/>
          </a:xfrm>
          <a:prstGeom prst="line">
            <a:avLst/>
          </a:prstGeom>
          <a:ln w="28440">
            <a:solidFill>
              <a:srgbClr val="95b3d7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2"/>
          <p:cNvSpPr/>
          <p:nvPr/>
        </p:nvSpPr>
        <p:spPr>
          <a:xfrm>
            <a:off x="7211880" y="816120"/>
            <a:ext cx="1681200" cy="46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трелка влево 7"/>
          <p:cNvSpPr/>
          <p:nvPr/>
        </p:nvSpPr>
        <p:spPr>
          <a:xfrm>
            <a:off x="6810480" y="838080"/>
            <a:ext cx="288720" cy="400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4840" y="0"/>
            <a:ext cx="6364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ТОВАРНЫЕ ЗНАКИ. ДОПУСТИМЫЕ СЛУЧАИ ИСПОЛЬЗОВАНИЯ (п.1. ч.1 ст. 33)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6" name="Прямоугольник 4"/>
          <p:cNvSpPr/>
          <p:nvPr/>
        </p:nvSpPr>
        <p:spPr>
          <a:xfrm>
            <a:off x="285840" y="981000"/>
            <a:ext cx="8640720" cy="14320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НЫЙ ЗНАК + «ИЛИ ЭКВИВАЛЕНТ»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+ ТРЕБОВАНИЯ ПО ЭКВИ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5"/>
          <p:cNvSpPr/>
          <p:nvPr/>
        </p:nvSpPr>
        <p:spPr>
          <a:xfrm>
            <a:off x="284040" y="2565360"/>
            <a:ext cx="8642520" cy="14320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ОВМЕСТИМ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ОВ, НА КОТОРЫХ РАЗМЕЩ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 Т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НЕОБХОДИМОСТИ ОБЕСПЕЧЕНИЯ ВЗАИМОДЕЙСТВИЯ ТАКИХ ТОВАР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ТОВАРАМИ, ИСПОЛЬЗУЕМЫМИ ЗАКАЗЧ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6"/>
          <p:cNvSpPr/>
          <p:nvPr/>
        </p:nvSpPr>
        <p:spPr>
          <a:xfrm>
            <a:off x="299880" y="4149720"/>
            <a:ext cx="8641080" cy="14320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УПКА ЗАПАСНЫХ ЧАСТЕЙ И РАСХОДНЫХ МАТЕРИАЛ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МАШИНАМ И ОБОРУДОВАНИЮ, ИСПОЛЬЗУЕМЫМ ЗАКАЗЧИК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ООТВЕТСТВИИ С ТЕХДОКУМЕНТАЦИ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КАЗАННЫЕ М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7"/>
          <p:cNvSpPr/>
          <p:nvPr/>
        </p:nvSpPr>
        <p:spPr>
          <a:xfrm>
            <a:off x="308160" y="5805360"/>
            <a:ext cx="7117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особенности отдельных объектов закупки – Правительство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ГОЗ (275-Ф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52"/>
          <p:cNvSpPr/>
          <p:nvPr/>
        </p:nvSpPr>
        <p:spPr>
          <a:xfrm>
            <a:off x="2124000" y="1192320"/>
            <a:ext cx="0" cy="129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53"/>
          <p:cNvSpPr/>
          <p:nvPr/>
        </p:nvSpPr>
        <p:spPr>
          <a:xfrm>
            <a:off x="5867280" y="1206360"/>
            <a:ext cx="0" cy="131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westerncommercial.com/wp-content/uploads/2018/04/envelopes.jpg"/>
          <p:cNvPicPr/>
          <p:nvPr/>
        </p:nvPicPr>
        <p:blipFill>
          <a:blip r:embed="rId1"/>
          <a:stretch/>
        </p:blipFill>
        <p:spPr>
          <a:xfrm>
            <a:off x="4008600" y="2708280"/>
            <a:ext cx="1341360" cy="9684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2"/>
          <p:cNvSpPr/>
          <p:nvPr/>
        </p:nvSpPr>
        <p:spPr>
          <a:xfrm>
            <a:off x="3929040" y="2417760"/>
            <a:ext cx="6480" cy="39816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27"/>
          <p:cNvSpPr/>
          <p:nvPr/>
        </p:nvSpPr>
        <p:spPr>
          <a:xfrm>
            <a:off x="1298520" y="2259000"/>
            <a:ext cx="19080" cy="209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29"/>
          <p:cNvSpPr/>
          <p:nvPr/>
        </p:nvSpPr>
        <p:spPr>
          <a:xfrm flipH="1">
            <a:off x="1298160" y="2533680"/>
            <a:ext cx="15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2"/>
          <p:cNvSpPr/>
          <p:nvPr/>
        </p:nvSpPr>
        <p:spPr>
          <a:xfrm flipH="1">
            <a:off x="1298160" y="2874960"/>
            <a:ext cx="157320" cy="4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4"/>
          <p:cNvSpPr/>
          <p:nvPr/>
        </p:nvSpPr>
        <p:spPr>
          <a:xfrm flipH="1">
            <a:off x="1298160" y="3224160"/>
            <a:ext cx="15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6"/>
          <p:cNvSpPr/>
          <p:nvPr/>
        </p:nvSpPr>
        <p:spPr>
          <a:xfrm flipH="1" flipV="1">
            <a:off x="1298160" y="3569760"/>
            <a:ext cx="152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8"/>
          <p:cNvSpPr/>
          <p:nvPr/>
        </p:nvSpPr>
        <p:spPr>
          <a:xfrm flipH="1">
            <a:off x="1307880" y="3957480"/>
            <a:ext cx="160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0"/>
          <p:cNvSpPr/>
          <p:nvPr/>
        </p:nvSpPr>
        <p:spPr>
          <a:xfrm flipH="1">
            <a:off x="1298160" y="4356000"/>
            <a:ext cx="136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2"/>
          <p:cNvSpPr/>
          <p:nvPr/>
        </p:nvSpPr>
        <p:spPr>
          <a:xfrm>
            <a:off x="3921120" y="2417760"/>
            <a:ext cx="30816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1"/>
          <p:cNvSpPr/>
          <p:nvPr/>
        </p:nvSpPr>
        <p:spPr>
          <a:xfrm flipH="1">
            <a:off x="4876560" y="2394000"/>
            <a:ext cx="50004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8"/>
          <p:cNvSpPr/>
          <p:nvPr/>
        </p:nvSpPr>
        <p:spPr>
          <a:xfrm flipH="1" flipV="1">
            <a:off x="727200" y="2069640"/>
            <a:ext cx="474480" cy="18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7"/>
          <p:cNvSpPr/>
          <p:nvPr/>
        </p:nvSpPr>
        <p:spPr>
          <a:xfrm flipH="1" flipV="1">
            <a:off x="726840" y="4827600"/>
            <a:ext cx="36036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9"/>
          <p:cNvSpPr/>
          <p:nvPr/>
        </p:nvSpPr>
        <p:spPr>
          <a:xfrm flipH="1">
            <a:off x="726840" y="5979960"/>
            <a:ext cx="36036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63356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СПОСОБЫ ОПРЕДЕЛЕНИЯ ПОСТАВЩИКОВ </a:t>
            </a:r>
            <a:br>
              <a:rPr sz="1600"/>
            </a:b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(ПОДРЯДЧИКОВ, ИСПОЛНИТЕЛЕЙ)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533600" y="765000"/>
            <a:ext cx="5472000" cy="4492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ОПРЕДЕЛЕНИЯ ПОСТАВЩ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557280" y="1346040"/>
            <a:ext cx="2646360" cy="3733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4697280" y="1346040"/>
            <a:ext cx="2776680" cy="3733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КОНКУР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5351400" y="1898640"/>
            <a:ext cx="3306960" cy="99072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УПКИ У ЕДИНСТВЕННОГО ПОСТАВЩ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дрядчика, исполните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1201680" y="1882800"/>
            <a:ext cx="2506680" cy="3762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3"/>
          <p:cNvSpPr/>
          <p:nvPr/>
        </p:nvSpPr>
        <p:spPr>
          <a:xfrm>
            <a:off x="1087560" y="4640400"/>
            <a:ext cx="2595600" cy="37620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УКЦ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1455840" y="2394000"/>
            <a:ext cx="2320920" cy="279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0"/>
          <p:cNvSpPr/>
          <p:nvPr/>
        </p:nvSpPr>
        <p:spPr>
          <a:xfrm flipV="1">
            <a:off x="727200" y="1719360"/>
            <a:ext cx="0" cy="3506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2"/>
          <p:cNvSpPr/>
          <p:nvPr/>
        </p:nvSpPr>
        <p:spPr>
          <a:xfrm flipV="1">
            <a:off x="4876920" y="1719360"/>
            <a:ext cx="0" cy="674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1"/>
          <p:cNvSpPr/>
          <p:nvPr/>
        </p:nvSpPr>
        <p:spPr>
          <a:xfrm>
            <a:off x="1455840" y="2719440"/>
            <a:ext cx="2320920" cy="31104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ограниченным участ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3"/>
          <p:cNvSpPr/>
          <p:nvPr/>
        </p:nvSpPr>
        <p:spPr>
          <a:xfrm>
            <a:off x="1455840" y="3084480"/>
            <a:ext cx="2320920" cy="279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этап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5"/>
          <p:cNvSpPr/>
          <p:nvPr/>
        </p:nvSpPr>
        <p:spPr>
          <a:xfrm>
            <a:off x="1450800" y="3421080"/>
            <a:ext cx="2327400" cy="30168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1444680" y="3774960"/>
            <a:ext cx="2327400" cy="387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ытый с ограниченным участ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9"/>
          <p:cNvSpPr/>
          <p:nvPr/>
        </p:nvSpPr>
        <p:spPr>
          <a:xfrm>
            <a:off x="1434960" y="4216320"/>
            <a:ext cx="2340000" cy="27936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ытый двухэтап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2"/>
          <p:cNvSpPr/>
          <p:nvPr/>
        </p:nvSpPr>
        <p:spPr>
          <a:xfrm>
            <a:off x="1455840" y="5110200"/>
            <a:ext cx="2320920" cy="28080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лектронной форме (Э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3"/>
          <p:cNvSpPr/>
          <p:nvPr/>
        </p:nvSpPr>
        <p:spPr>
          <a:xfrm>
            <a:off x="1292400" y="5016600"/>
            <a:ext cx="1440" cy="23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44"/>
          <p:cNvSpPr/>
          <p:nvPr/>
        </p:nvSpPr>
        <p:spPr>
          <a:xfrm flipH="1" flipV="1">
            <a:off x="1298160" y="5249880"/>
            <a:ext cx="157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5"/>
          <p:cNvSpPr/>
          <p:nvPr/>
        </p:nvSpPr>
        <p:spPr>
          <a:xfrm>
            <a:off x="1449360" y="5465880"/>
            <a:ext cx="2322720" cy="28080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рыт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46"/>
          <p:cNvSpPr/>
          <p:nvPr/>
        </p:nvSpPr>
        <p:spPr>
          <a:xfrm flipH="1" flipV="1">
            <a:off x="1293840" y="5605560"/>
            <a:ext cx="155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9"/>
          <p:cNvSpPr/>
          <p:nvPr/>
        </p:nvSpPr>
        <p:spPr>
          <a:xfrm>
            <a:off x="1079640" y="5835600"/>
            <a:ext cx="2598480" cy="287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 КОТИРО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0"/>
          <p:cNvSpPr/>
          <p:nvPr/>
        </p:nvSpPr>
        <p:spPr>
          <a:xfrm>
            <a:off x="1087560" y="6242040"/>
            <a:ext cx="2600280" cy="5349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 ПРЕД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60"/>
          <p:cNvSpPr/>
          <p:nvPr/>
        </p:nvSpPr>
        <p:spPr>
          <a:xfrm flipH="1">
            <a:off x="726840" y="6386400"/>
            <a:ext cx="35244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83"/>
          <p:cNvSpPr/>
          <p:nvPr/>
        </p:nvSpPr>
        <p:spPr>
          <a:xfrm flipV="1">
            <a:off x="727200" y="2069640"/>
            <a:ext cx="0" cy="2762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5"/>
          <p:cNvSpPr/>
          <p:nvPr/>
        </p:nvSpPr>
        <p:spPr>
          <a:xfrm flipV="1">
            <a:off x="727200" y="4840200"/>
            <a:ext cx="0" cy="11397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87"/>
          <p:cNvSpPr/>
          <p:nvPr/>
        </p:nvSpPr>
        <p:spPr>
          <a:xfrm flipV="1">
            <a:off x="727200" y="5962320"/>
            <a:ext cx="0" cy="4237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8"/>
          <p:cNvSpPr/>
          <p:nvPr/>
        </p:nvSpPr>
        <p:spPr>
          <a:xfrm>
            <a:off x="1293840" y="5221440"/>
            <a:ext cx="1440" cy="38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1"/>
          <p:cNvSpPr/>
          <p:nvPr/>
        </p:nvSpPr>
        <p:spPr>
          <a:xfrm>
            <a:off x="4089240" y="3078000"/>
            <a:ext cx="27000" cy="2527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82"/>
          <p:cNvSpPr/>
          <p:nvPr/>
        </p:nvSpPr>
        <p:spPr>
          <a:xfrm>
            <a:off x="4095720" y="3078000"/>
            <a:ext cx="13356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https://www.clickdo.co.uk/wp-content/uploads/2016/06/world-internet-web-future.png"/>
          <p:cNvPicPr/>
          <p:nvPr/>
        </p:nvPicPr>
        <p:blipFill>
          <a:blip r:embed="rId2"/>
          <a:stretch/>
        </p:blipFill>
        <p:spPr>
          <a:xfrm>
            <a:off x="3941640" y="1938240"/>
            <a:ext cx="911520" cy="9111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19"/>
          <p:cNvSpPr/>
          <p:nvPr/>
        </p:nvSpPr>
        <p:spPr>
          <a:xfrm flipH="1">
            <a:off x="3776760" y="2529000"/>
            <a:ext cx="15696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20"/>
          <p:cNvSpPr/>
          <p:nvPr/>
        </p:nvSpPr>
        <p:spPr>
          <a:xfrm flipH="1">
            <a:off x="3776760" y="2870280"/>
            <a:ext cx="156960" cy="46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21"/>
          <p:cNvSpPr/>
          <p:nvPr/>
        </p:nvSpPr>
        <p:spPr>
          <a:xfrm flipH="1">
            <a:off x="3776760" y="3219480"/>
            <a:ext cx="15696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2"/>
          <p:cNvSpPr/>
          <p:nvPr/>
        </p:nvSpPr>
        <p:spPr>
          <a:xfrm flipH="1" flipV="1">
            <a:off x="3776400" y="3565080"/>
            <a:ext cx="152280" cy="18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23"/>
          <p:cNvSpPr/>
          <p:nvPr/>
        </p:nvSpPr>
        <p:spPr>
          <a:xfrm flipH="1">
            <a:off x="3768480" y="3951360"/>
            <a:ext cx="16020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24"/>
          <p:cNvSpPr/>
          <p:nvPr/>
        </p:nvSpPr>
        <p:spPr>
          <a:xfrm flipH="1">
            <a:off x="3785760" y="4370400"/>
            <a:ext cx="14292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28"/>
          <p:cNvSpPr/>
          <p:nvPr/>
        </p:nvSpPr>
        <p:spPr>
          <a:xfrm flipH="1">
            <a:off x="3774960" y="5221440"/>
            <a:ext cx="16056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29"/>
          <p:cNvSpPr/>
          <p:nvPr/>
        </p:nvSpPr>
        <p:spPr>
          <a:xfrm flipH="1">
            <a:off x="3771720" y="5605560"/>
            <a:ext cx="176040" cy="144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34"/>
          <p:cNvSpPr/>
          <p:nvPr/>
        </p:nvSpPr>
        <p:spPr>
          <a:xfrm flipH="1" flipV="1">
            <a:off x="3938400" y="3565080"/>
            <a:ext cx="152280" cy="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35"/>
          <p:cNvSpPr/>
          <p:nvPr/>
        </p:nvSpPr>
        <p:spPr>
          <a:xfrm flipH="1">
            <a:off x="3930480" y="3951360"/>
            <a:ext cx="16056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36"/>
          <p:cNvSpPr/>
          <p:nvPr/>
        </p:nvSpPr>
        <p:spPr>
          <a:xfrm flipH="1">
            <a:off x="3927600" y="4367160"/>
            <a:ext cx="180720" cy="32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37"/>
          <p:cNvSpPr/>
          <p:nvPr/>
        </p:nvSpPr>
        <p:spPr>
          <a:xfrm flipH="1">
            <a:off x="3943440" y="5603760"/>
            <a:ext cx="172800" cy="7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49"/>
          <p:cNvSpPr/>
          <p:nvPr/>
        </p:nvSpPr>
        <p:spPr>
          <a:xfrm>
            <a:off x="4991040" y="3328920"/>
            <a:ext cx="7920" cy="28400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50"/>
          <p:cNvSpPr/>
          <p:nvPr/>
        </p:nvSpPr>
        <p:spPr>
          <a:xfrm flipV="1">
            <a:off x="5076720" y="2630160"/>
            <a:ext cx="273240" cy="447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53"/>
          <p:cNvSpPr/>
          <p:nvPr/>
        </p:nvSpPr>
        <p:spPr>
          <a:xfrm flipH="1">
            <a:off x="4992480" y="3321000"/>
            <a:ext cx="423720" cy="7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58"/>
          <p:cNvSpPr/>
          <p:nvPr/>
        </p:nvSpPr>
        <p:spPr>
          <a:xfrm flipH="1" flipV="1">
            <a:off x="4774680" y="2514600"/>
            <a:ext cx="574920" cy="144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61"/>
          <p:cNvSpPr/>
          <p:nvPr/>
        </p:nvSpPr>
        <p:spPr>
          <a:xfrm flipH="1">
            <a:off x="3698640" y="5979960"/>
            <a:ext cx="2314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63"/>
          <p:cNvSpPr/>
          <p:nvPr/>
        </p:nvSpPr>
        <p:spPr>
          <a:xfrm flipH="1">
            <a:off x="3669840" y="6386400"/>
            <a:ext cx="26532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70"/>
          <p:cNvSpPr/>
          <p:nvPr/>
        </p:nvSpPr>
        <p:spPr>
          <a:xfrm flipH="1">
            <a:off x="4992480" y="3889440"/>
            <a:ext cx="423720" cy="7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71"/>
          <p:cNvSpPr/>
          <p:nvPr/>
        </p:nvSpPr>
        <p:spPr>
          <a:xfrm flipH="1">
            <a:off x="5000400" y="4456080"/>
            <a:ext cx="423720" cy="9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72"/>
          <p:cNvSpPr/>
          <p:nvPr/>
        </p:nvSpPr>
        <p:spPr>
          <a:xfrm flipH="1">
            <a:off x="5000400" y="5029200"/>
            <a:ext cx="423720" cy="7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73"/>
          <p:cNvSpPr/>
          <p:nvPr/>
        </p:nvSpPr>
        <p:spPr>
          <a:xfrm flipH="1">
            <a:off x="5000400" y="5591160"/>
            <a:ext cx="423720" cy="7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75"/>
          <p:cNvSpPr/>
          <p:nvPr/>
        </p:nvSpPr>
        <p:spPr>
          <a:xfrm flipH="1">
            <a:off x="5000400" y="6165720"/>
            <a:ext cx="423720" cy="79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7"/>
          <p:cNvSpPr/>
          <p:nvPr/>
        </p:nvSpPr>
        <p:spPr>
          <a:xfrm>
            <a:off x="5416560" y="3092400"/>
            <a:ext cx="3209760" cy="4730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ь заказчика за рубеж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. 75, 11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8"/>
          <p:cNvSpPr/>
          <p:nvPr/>
        </p:nvSpPr>
        <p:spPr>
          <a:xfrm>
            <a:off x="5416560" y="3659040"/>
            <a:ext cx="3209760" cy="473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скорой медпомощи в экстренн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тложной форме (ст. 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0"/>
          <p:cNvSpPr/>
          <p:nvPr/>
        </p:nvSpPr>
        <p:spPr>
          <a:xfrm>
            <a:off x="5416560" y="4226040"/>
            <a:ext cx="3209760" cy="4730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гумпомощи, ликвидации последствий Ч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т.80, 8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1"/>
          <p:cNvSpPr/>
          <p:nvPr/>
        </p:nvSpPr>
        <p:spPr>
          <a:xfrm>
            <a:off x="5421240" y="4792680"/>
            <a:ext cx="3210120" cy="4730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дение закупок в соответствии с решением Правительства РФ (ст. 1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77"/>
          <p:cNvSpPr/>
          <p:nvPr/>
        </p:nvSpPr>
        <p:spPr>
          <a:xfrm>
            <a:off x="5416560" y="5354640"/>
            <a:ext cx="3209760" cy="47304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закрытых закупок (ст. 8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2"/>
          <p:cNvSpPr/>
          <p:nvPr/>
        </p:nvSpPr>
        <p:spPr>
          <a:xfrm>
            <a:off x="5429160" y="5925960"/>
            <a:ext cx="3210120" cy="473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дение закупок у ЕП (ст. 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4173480" y="21924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320" y="0"/>
            <a:ext cx="57736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КОРРЕКТНЫЕ ТРЕБОВАНИЯ В ТЗ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4560" y="88056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проверки в действиях должностных лиц МБУ «Городское хозяйство муниципального образования город Энгельс Энгельсского муниципального района Саратовской области» при подготовке и утверждении документации об аукционе на право заключения договора на поставку противогололедного материала выявлены нарушения требований указанного законод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, в документации об аукционе  имеется следующая формулировка состава противогололедного материала - «массовая доля карбамида (хлорида калия)». Вместе с тем, карбамид и хлорид калия являются разными компонентами. В связи с чем, имеющаяся формулировка состава материала делает невозможным исполнение контракт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лях устранения нарушений внесено соответствующее предст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ношении должностного лица МБУ возбуждено дело об административном правонарушении, предусмотренном ч. 4.2 ст. 7.30 КоАП РФ, по результатам рассмотрения которого на виновное лицо наложен административный шт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7"/>
          <p:cNvSpPr/>
          <p:nvPr/>
        </p:nvSpPr>
        <p:spPr>
          <a:xfrm>
            <a:off x="8547120" y="644508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223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8" descr="http://toptyumen.ru/wp-content/uploads/2016/03/photo.jpg"/>
          <p:cNvPicPr/>
          <p:nvPr/>
        </p:nvPicPr>
        <p:blipFill>
          <a:blip r:embed="rId2"/>
          <a:stretch/>
        </p:blipFill>
        <p:spPr>
          <a:xfrm>
            <a:off x="5824440" y="57240"/>
            <a:ext cx="720720" cy="718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4911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УСЛОЖНЕННОЕ ТЗ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8080" y="84744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 документации о закупке, в котором содержались требования к товару, занимал больше 200 стран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А сформирована заказчиком таким образом, что для подачи заявки участнику закупк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соотнести все показат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варов с типами и подтипами указанными в инструкции по заполнению первой части заявки, для чего необходимо структурировать по порядку соотношение "показатель товара - позиция товара", также участнику закупки необходимо представить показатели товара, соответствующие требованиям государственных стандартов, указание на которые содержится в аукционной докумен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установленное в инструкции соотношение позиций товаров из разных таблиц с типами и подтипами, указанными в инструкции, а также с государственными стандартами, перечисленными в инструкц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упорядочено, носит бессистемный и хаотичн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ходе рассмотрения спора администрация не представила доказательств и пояснений относительно того, каким образом столь объемное несистемное (хаотичное) отражение в документации значимых показател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чает объективным потребностям заказчи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оварах, используемых при выполнении закупаем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3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ение ВС РФ от 30.08.2018 по делу N А56-55217/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icture 15"/>
          <p:cNvSpPr/>
          <p:nvPr/>
        </p:nvSpPr>
        <p:spPr>
          <a:xfrm>
            <a:off x="8204040" y="15840"/>
            <a:ext cx="85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icture 3"/>
          <p:cNvSpPr/>
          <p:nvPr/>
        </p:nvSpPr>
        <p:spPr>
          <a:xfrm>
            <a:off x="7664400" y="198360"/>
            <a:ext cx="4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5127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ОГ ТРУ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4560" y="836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ТРУ - систематизированный перечень ТРУ, закупаемых для обеспеч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х и муниципальных нуж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формированный на основе ОКПД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формирования и ведения - ПП РФ от 08.02.2017 N 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 ведение каталога – в ЕИС, в том числе путем информационного взаимодействия с иными информационными сист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тся регулятором во взимодействии с ФОИВ (ведение информационных систем, регистрация товаров в установленной сфере деятельн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 каталога – юрли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ключается госта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 позиции каталога – на основе ОКПД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3"/>
          <p:cNvSpPr/>
          <p:nvPr/>
        </p:nvSpPr>
        <p:spPr>
          <a:xfrm>
            <a:off x="4211640" y="4581360"/>
            <a:ext cx="468144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й закупке могут быть как позиции, включенные, так и не включенные  в КТ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4695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ИЦИЯ КАТАЛОГ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7640" y="907920"/>
            <a:ext cx="910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од позиции кат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Наименование ТРУ (не торговое наименование, не содержит указание на производителя и место происхождения тов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Единица измерения количества товара, объема работы (услуги) – по ОК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информация, содержащая описание товара, работы,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) справочная информ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ы согласно системам классификации, каталогизации (при налич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о типовых контрактах, типовых условиях контрактов, подлежащих применению при закупке ТРУ (при налич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) дата включения в каталог поз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) дата (даты) начала обязательног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) дата окончания применения позиции каталога (при необходим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) дополнительная информация (о конкретных Т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в каталоге - код по ОКПД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анный лот – код для каждого 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3"/>
          <p:cNvSpPr/>
          <p:nvPr/>
        </p:nvSpPr>
        <p:spPr>
          <a:xfrm>
            <a:off x="5364000" y="5300640"/>
            <a:ext cx="345600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ОСТАВЛЕНИЕ ИНОЙ И ДОПОЛНИТЕЛЬНОЙ ИНФОРМАЦИИ - ОБ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89240" y="0"/>
            <a:ext cx="3759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ТРУ. ПРИМЕР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37880" y="90792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zakupki.gov.ru/epz/kt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000240" y="907920"/>
            <a:ext cx="6018480" cy="581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2"/>
          <a:stretch/>
        </p:blipFill>
        <p:spPr>
          <a:xfrm>
            <a:off x="326880" y="2133720"/>
            <a:ext cx="2444760" cy="215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4560" y="6919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7400" cy="637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8960" y="836280"/>
            <a:ext cx="9109080" cy="5832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815320" cy="50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6192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ЫЕ ОШИБКИ ИСПОЛЬЗОВАНИЯ КТРУ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4560" y="6919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именение К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рный выбор кода позиции в К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казание характеристики из КТРУ, выход за установленные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обоснования дополнительной характер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лишн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льное (неубедительное)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58467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РИМЕНЕНИЕ КТРУ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4560" y="85212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менование товара  «катетер баллонный для коронарной ангиопластики, стандартный» под указанным в документации кодом ОКПД 2 - 32.50.13.110 было включено в КТРУ с датой начала обязательного применения позиции каталога с 01.01.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, извещение и документация о проведении электронного аукциона № 0168200002418001093, размещенные в единой информационной системе 11.04.2018 г. бы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ны без учета информации, включенной в позицию КТ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едставлены нормативные и документальные доказательства обоснованности установления спорных характеристик закупаемых товаров (по позиции 1 диаметр баллона 0,75; 0,80; 0,90; 1,25 мм., по позиции 2 -количество рентгенконтрастных маркеров на баллоне / 3 шт.: 2 расположены по краям баллона, 1 шт. - в сегменте перемены диаметр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едставлены сведения о наличии нескольких производителей товаров, в совокупности удовлетворяющих установленным в документации характеристикам по двум пози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казан источник, правомерность и необходимость используемой характеристики: «количество рентгенконтрастных маркеров на баллоне / 3 шт.: 2 расположены по краям баллона, 1 шт. - в сегменте перемены диаметра». Кроме того, документация также не содержит обоснования необходимости использования данного показ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нить протоколы, внести из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3"/>
          <p:cNvSpPr/>
          <p:nvPr/>
        </p:nvSpPr>
        <p:spPr>
          <a:xfrm>
            <a:off x="19080" y="6369120"/>
            <a:ext cx="9137520" cy="35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льяновское УФАС 27.04.2018 № 14 862/03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4560" y="0"/>
            <a:ext cx="6481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ОСНОВАННЫЕ ДОПОЛНИТЕЛЬНЫЕ ХАРАКТЕРИСТИК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8960" y="83160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ом в описание объекта закупки включено множество дополнительных технических и функциональных характеристик по сравнению с предусмотренными каталогом товаров, работ, услуг, без обоснования их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ть жалобу ООО «Урал Мед» обоснованной  в части формирования объекта закупки без применения каталога товаров, работ, услуг, нарушения порядка описания объекта зак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о о контрактной системе не содержит ограничения на установление заказчиком в аукционной документации дополнительных требований к поставляемым товарам по сравнению с указанными в катал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Аналогично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Омского УФАС от 17.10.2018, Решение Астраханского УФАС от 21.06.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льяновское УФАС 22.06.2018 Дело № 14 980/03-20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599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9400" y="136080"/>
            <a:ext cx="64036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02-ФЗ. Обеспечени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E143-37E1-4B4A-BA7E-85F93A804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84360" y="1916280"/>
            <a:ext cx="796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щик обязан предоставить новую БГ, если банк лишен лицензии в течение месяца с даты запроса заказчика, просрочка - пени 1/ 300 от ключевой ст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щик мо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рнуть часть обеспечения контракта, пропорциональную  выполненным обязательствам за этап (если был выделен), выполненный без неусто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тракте должны быть указаны сроки возврата обеспечения контракта и его ч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684360" y="-9360"/>
            <a:ext cx="7755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РУ. ПРИМЕР ОБОСНОВАНИЯ ДОПХАРАКТЕРИСТИ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ТРУ 29.10.20.000-00000013 : Автомобиль легковой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521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ь лег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08000" y="1397160"/>
          <a:ext cx="8928000" cy="4743360"/>
        </p:xfrm>
        <a:graphic>
          <a:graphicData uri="http://schemas.openxmlformats.org/drawingml/2006/table">
            <a:tbl>
              <a:tblPr/>
              <a:tblGrid>
                <a:gridCol w="2232000"/>
                <a:gridCol w="2448000"/>
                <a:gridCol w="2016000"/>
                <a:gridCol w="2232000"/>
              </a:tblGrid>
              <a:tr h="1174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ЗМЕНЯЕМ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БКА ПЕРЕ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О КТ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ВИГ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ЗИН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О КТ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ПРИ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О КТ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7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МЕ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НО КТР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4920" y="692280"/>
          <a:ext cx="9001080" cy="549756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1386000"/>
                <a:gridCol w="4446360"/>
              </a:tblGrid>
              <a:tr h="20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ение рул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сторон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е установлено для обеспечения безопасности дорожного движения, т.к. на дорогах Российской Федерации установлено правостороннее движение транспортных средст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.5 ст. 22 Федерального закона от 10.12.1995 N 196-ФЗ "О безопасности дорожного движения"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41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ая мощность, л.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100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ое значение показателя обусловлено необходимостью обеспечения движения и маневрирования загруженного автомобиля с максимальной скоростью в заданных дорожных условиях, в том числе при возникновении ситуаций, когда необходимо оказать ребенку скорую медицинскую помощ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значение показателя обусловлено объемом прав в денежном выражении на принятие и исполнение обязательств Заказчиком в соответствии с бюджетным законодательством Российской Федерации по уплате транспортного нало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4920" y="692280"/>
          <a:ext cx="9109080" cy="713268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944720"/>
                <a:gridCol w="4572000"/>
              </a:tblGrid>
              <a:tr h="384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кондицио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ционер или климат- 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обеспечения необходимых условий температурного режима в салоне автомобиля и исключения ухудшения состояния здоровья детей, страдающих пороками развития ЦНС, сердца, органов дыхания, при их транспортировке, в том числе в ФГБУ «Федеральный центр сердечно-сосудистой хирургии», ГБУЗ «Челябинская областная детская клиническая больница» и т.п., в периоды экстремально низких (- 25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и более) и высоких (+3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и более) температур воздуха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диосис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поддержания положительного психо-эмоционального состояния ребенка, в том числе при длительном пребывании в автомобиле (при междугородных переезд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9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куз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лых тонов по согласованию с заказчиком в пределах палитры производ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целях обеспечения безопасности для визуализации автомобиля при нахождении его на дороге в темное время суток (в том числе при движении на трассе во время междугородных переездов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88880" y="-55800"/>
            <a:ext cx="7754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4920" y="692280"/>
          <a:ext cx="9109080" cy="5181480"/>
        </p:xfrm>
        <a:graphic>
          <a:graphicData uri="http://schemas.openxmlformats.org/drawingml/2006/table">
            <a:tbl>
              <a:tblPr/>
              <a:tblGrid>
                <a:gridCol w="2016000"/>
                <a:gridCol w="1225800"/>
                <a:gridCol w="431640"/>
                <a:gridCol w="5435640"/>
              </a:tblGrid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ое коле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обеспечения продолжения движения в случае возникновения в пути аварийной ситуации (пробой, порез, разрыв шины колес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82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ие и задние стеклоподъёмники с электроприво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обеспечения комфортного пребывания детей в автомобиле, в том числе для доступа свежего воздуха во время движения автомобиля при укачивании, плохом самочувств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грев ветрового сте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е установлено с целью предотвращения аварийных ситуаций во время дорожного движения (в том числе во время междугородных переездов в зимнее время года) вследствие обледенения ветрового стекла и ограничения обзора зоны видимо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609" name="TextBox 4"/>
          <p:cNvSpPr/>
          <p:nvPr/>
        </p:nvSpPr>
        <p:spPr>
          <a:xfrm>
            <a:off x="39528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04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ы обоснований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8080" y="100620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обходимость соответствия имеющимся стандар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точный срок год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ля обеспечения свежести проду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упаковки скоропортящегося продукта (творог, сметана, молоко, кефир, сыр и т.д.)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упаковки большего объема невозможно, так как имеющееся холодильное оборудование не позволяет хранить продукт в таре большего объ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108000" y="96840"/>
            <a:ext cx="7755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БЫТОЧНЫЕ ХАРАКТЕРИСТИКИ. ЗАТОЧКА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8080" y="84096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обили должны были быть оснащены бортовым компьютером, подогревом сидений, системой кругового обзора с цветным дисплеем, светодиодной окантовкой фар, многофункциональным дисплеем на приборной панели, электрорегулировкой пассажирского сиденья в 6 направлениях и пассажирского - в 4 направлениях, кнопкой запуска двигателя, панорамной крышей с функцией электропривода, круиз-контролем и другими дополнительными опциям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лияющими на ходовые характеристики автомоби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объекта закупки в нарушение требований ст. 33 44-Ф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о «под конкретный товар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 указания на возможность предоставления его эквивалента, что соответственно могло привести к ограничению конкурен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объявления прокуратурой Брюховецкого райо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остере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купка отмен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УРА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ndery.ru/?page_id=269&amp;news_id=204119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560" y="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ОСНОВАННОЕ НЕСООТВЕТСТВИЕ ГОСТ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8960" y="83160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лоб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ны нестандартные показатели, а именно по п.72 приведен несуществующий ГОСТ 12820-2001, по п.152 приведен недействующий ГОСТ 20575-75, по п.232 приведен показатель цвета эмали ХВ-125, противоречащий ГОСТ 10144-89, по п.206 приведены показатели товара несоответствующие ГОСТ 18599-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а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 поз. 152 провода – ТРП 1х2х0,5 мм ГОСТ 20575-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 поз. 206 труба – ПЭ 100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17, 110х10мм, ГОСТ 18599-20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 поз. 232 эмаль – ХВ-125 серебристая ГОСТ 10144-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рагмент, аналогично по другим пунктам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поз.1 раздела «Сеть ливневой канализации» (лист 3 том 5) подрядчику предлагается использовать товар – труба ПЭ100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110х6,6 в соответствии с ГОСТ 18599-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Заказчиком для данного товара показателя «110х10мм» не соответствует приведенному стандар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ом в п. 206 для товара «труба» использован показатель несоответствующий ГОСТ 18599-2001, применение в документации об аукционе не обоснов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УФАС по Кировской области от 23.11.17  № 491/03-17-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97080" y="-4680"/>
            <a:ext cx="77547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ОСНОВАННОЕ ОТКЛОНЕНИЕ ОТ ГОСТ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112536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, в п. 47 Технического задания указано, в том числе, следующее: «Теплопроводность λ2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/м•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от 0,038 до 0,043 включитель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ло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таблице 4 ГОСТа 8.417-2002 «Государственная система обеспечения единства измерений (ГСИ). Единицы величин» величина «Теплопроводность» обозначается в следующих единицах измерения: ватт на метр-кельвин - W/(m•K) (международное обозначение)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/(м•К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русское обознач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Ф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Заказчика нарушают требования части 1 статьи 64 Закона о контрактной сис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бовское УФАС решение от 03.10.18 по делу № РЗ-225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6121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ТАНДАРТНЫЕ ПОКАЗАТЕЛИ БЕЗ ОБОСНОВАНИЯ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640" y="901800"/>
            <a:ext cx="910872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ом при описании характеристик товара были использованы такие показатели и терминология, как: U-образный вырез, лепесток, повязка в виде «штанишек», самоклеящаяся повязка-«кармашек», которые не содержатся в ГОСТе Р 53498-2009, устанавливающем требования к техническим характерист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, в нарушение требований п. 2 ч. 1 ст. 33 Закона № 44-ФЗ документация об электронном аукционе не содержит обоснование необходимости применения заказчиком показателей (условных обозначений и терминологии) при описании объекта закупки, не указанных в законодательстве о стандар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шеизложенного Комиссия приходит к выводу, что заказчик, установив рассмотренные требования к объекту закупки (без обоснования такой необходимости), допустил нарушение п. 1 ч. 1 ст. 64 Закона № 44-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пецкого УФАС от 21 февраля 2018 г. № 40с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31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1912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СНОВАНИЕ НЕСООТВЕТСТВИЯ ГОСТ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4560" y="78408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ь «поверхность перчаток» - «многослойные,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держат слой с дезинфектантом на основе хлоргексид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я указанного требования - для обеспечения непрерывной антисептической обработки, снижающей бактериальную и вирусную нагрузку при нарушении целостности перча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оответствии с пунктом 3.2.2 Методических рекомендаций МР 3.5.1.0113-16, утвержденных Федеральной службой но надзору в сфере защиты прав потребителей и благополучия человека, Главным государственным санитарным врачом РФ 2 сентября 2016 г., специализированные хирургические перчатки, наряду с базовыми характеристиками, обладают рядом дополнительных свойств, соответствующих требованиям различных областей хирургии, в том числе, перчатки с внутренним антибактериальным покр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ные заказчиком в приложении № 1 к документации требования к перчаткам хирургическим не противоречат нормам законодательства, определены исходя из потребностей медицинского учреждения и необходимости оказания медицинской помощи пациен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3"/>
          <p:cNvSpPr/>
          <p:nvPr/>
        </p:nvSpPr>
        <p:spPr>
          <a:xfrm>
            <a:off x="-9360" y="6302520"/>
            <a:ext cx="9137520" cy="35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АС по Ульяновской области 01.06.2018  Дело № 14 932/03-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6264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БУ и АУ НЕ ПРЕДОСТАВЛЯЮТ ОБЕСПЕЧЕНИЕ ЗАЯВОК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4560" y="977760"/>
            <a:ext cx="91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ФЗ от 27.12.2018 № 502-ФЗ с 27.12.201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акция ч. 6 ст. 44 Закона № 44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и муниципальные учреждения (КУ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У, А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не предоставляют обеспечение заявок при участии в заку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я контра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едоставляют только КУ (п.1 ч. 8 ст. 96 Закона № 44-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 - предоставляют обеспечение заявки и контр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256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РЕВШИЕ ГОСТы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8080" y="9208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требованиями к товару в документации об аукционе предлагаемые материалы (товары) должны соответствовать государственным стандартам, в частности масло растительное (высший сорт) должно соответствовать ГОСТ 1129-93 «Масло подсолнечное. Технические у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сведениям официального сайта Федерального агентства по техническому регулированию метрологии указанный ГОС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атил силу на территории РФ с 01.01.199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зиции «Крупа гречневая-ядрица» отмечено также, что товар должен соответствовать ГОСТу 5550-97, одна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ого стандарта с таким номером не суще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итории Российской Федерации используется ГОТС 5550-74. ГОСТ 1938-90 «Чай чёрный байховый фасованный. Технические условия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нё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ОСТ 108-76 «Какао-порошок. Технические условия» также заме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езультатам проверки в отношении 7 директоров общеобразовательных учреждений городского округа Прохладного возбуждены производства об административных правонарушениях по ч. 4.2 ст. 7.30 КоАП РФ (нарушение порядка осуществления закупок товаров, работ, услуг для обеспечения государственных и муниципальных нужд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УРА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ndery.ru/forum/viewtopic.php?f=521610&amp;t=204525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41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8" descr="http://toptyumen.ru/wp-content/uploads/2016/03/photo.jpg"/>
          <p:cNvPicPr/>
          <p:nvPr/>
        </p:nvPicPr>
        <p:blipFill>
          <a:blip r:embed="rId2"/>
          <a:stretch/>
        </p:blipFill>
        <p:spPr>
          <a:xfrm>
            <a:off x="5940360" y="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8" descr="http://www.steelhot.com/upload/image/thumb/mythumb_800_800_20170613161221_65840.jpg"/>
          <p:cNvPicPr/>
          <p:nvPr/>
        </p:nvPicPr>
        <p:blipFill>
          <a:blip r:embed="rId1"/>
          <a:stretch/>
        </p:blipFill>
        <p:spPr>
          <a:xfrm>
            <a:off x="5508720" y="227664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63356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Т И КОМБИНИРОВАНИЕ ДИСКРЕТНЫХ ЗНАЧЕНИЙ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4560" y="6922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ацией установл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соответствия фланцев ГОСТ 33259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или отсутствие у них покрытия по ГОСТ 9.303-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а стали должна быть 20 / 17Г1С / 20КА / 16ГС / 15ГС / 09Г2С / 20Х5МЛ / 15Х5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заявке указа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ГОСТ 33259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крытия по ГОСТ 9.303-8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а стали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п. 7.9.7 ГОСТ 33259-2015 фланцы из углеродистых стале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ны иметь покрыт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ГОСТ 9.303-8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тайского  УФАС от 08.08.2017 № 140-К/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0520" y="0"/>
            <a:ext cx="7755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СВЯЗАННЫЕ ПОЗИЦИ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2480" y="8395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е к стали горячеката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Т 5781-82. Класс арматурной стали в зависимости от механических свойств: [A-I], [A-III]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профиля (номинальный диаметр стержня dн), мм: класса стали [A-I]: 6-14, класса стали [A-III]: 10/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: в мотках или стерж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ь класса [А-III] должна иметь выступы по винтовым линиям, имеющим с одной стороны профиля правый, а с другой левый за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лоб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п.1.12 ГОСТа 5781-82 «Арматурную сталь классов А-I (А240) и А-II (А300) диаметром до 12 мм и класса А-III (А400) диаметром до 10 мм включ. изготовляют в мотках или стержнях, больших диаметров - в стержня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зчик допускает возможность указать участником закупки в составе заявки арматурную сталь класса А-I c диаметром 14 мм, изготовленную в мотках или стержнях, что противоречит ГОСТу 8781-8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бовское УФАС решение от 03.10.18 по делу № РЗ-225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53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4560" y="87120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овары должны соответствовать ГОСТ и ТУ для данного вида материалов», конкретные ГОСТ и ТУ не привед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явке указаны показатели материалов (портландцемента и карборун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иссия заказчика отклонила заявку, так как эти показатели не соответствовали конкретным ГОС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ФА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ние в инструкции по заполнению заявки о необходимости соответствия товаров ГОСТ и ТУ д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ого вида материалов недостаточно. Конкретных Г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 документация об аукционе не содержало, показат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аров в заявке соответствовали требованиям заказчик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онение незако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онение заявки было признано правомерным, решение и предписание УФАС – незако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5343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Т. ОБОБЩЕННО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Прямоугольник 3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СУ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ение ВС РФ  от 6 февраля 2018 г. дело № А64-4275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58" name="TextBox 5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АЗАНИЕ АРТИКУЛА ЗАПАСНОЙ ЧАСТИ В СООТВЕТСТВИИ С КАТАЛОГАМИ ЗАПАСНЫХ ЧАСТЕЙ ПРОИЗВОДИТЕЛЯ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120" y="96012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выпуске автомобилей иностранного производства заводами-изготовителями помимо общепринятых названий деталей присваиваются уникальные идентификационные коды деталей - артику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ановив требование по поставке деталей, которые устанавливаются на конвейере завода изготовителя автомобилей, заказчик покупает не только деталь, но и гарантию качества и совместимость с другими узлами этой детали, которые установлены к производителю запасных частей разработчиком технически сложного устр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пунктом 1 части 1 статьи 33 44-ФЗ предусмотрено прямое исключение при описании объекта закупки в документации о закупке слов "или эквивалент" в случае закупки запасных частей и расходных материалов к машинам и оборудованию, используемым заказчиком, в соответствии с технической документацией на указанные машины и оборуд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ние в артикула запасной части в соответствии с каталогами запасных частей, составленных заводом-изготовителем автомобилей, не нарушает антимонопольного законодательства и не ограничивает конкуренцию, поскольку аукционная документац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обязывает поставлять запасные части только от определенного производ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асных частей, а обязывает поставлять запасные части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ющие определенному артику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3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СУ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 Поволжского округа от 22.03.2018 по делу N А65-14098/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5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121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ОДНЫЕ КАМНИ ИНСТРУКЦИ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8960" y="89172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казчиком установлены следующие требования к товару «Самовыравнивающаяся смесь»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при проведении работ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 не боле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+ 5 C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пустимая температура в процессе эксплуатации: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 не мене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70 °C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олщина сло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т не боле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5 мм до не менее 30 мм, в углублениях –            до не менее 40 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овар должен соответствовать ГОСТ 31358-2007;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5745-001-50040588-2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я по заполнению первой части заявки не содержит порядок заполнения первой части, в случае установления Заказчиком требований к товару с использованием слов «от не более», «до не менее», с использованием символа «;», что не позволяет участникам закупки определить порядок предоставления показателей, например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части наличия или отсутствия вышеуказанных слов и символ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первой части зая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кт-Петербургский УФАС 02.12.2016 по делу № 44-4217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68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80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ЛОНЕНИЕ ЗАЯВКИ. ОБОСНОВАНН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0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сУФАС от 21.11.2017 по делу № 2-57-14390/77-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72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247680" y="861840"/>
            <a:ext cx="1515960" cy="10684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улер для процессора тип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1908000" y="861840"/>
            <a:ext cx="2448000" cy="10684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Максимальная скорость в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1950…2200* об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8"/>
          <p:cNvSpPr/>
          <p:nvPr/>
        </p:nvSpPr>
        <p:spPr>
          <a:xfrm>
            <a:off x="4508640" y="861840"/>
            <a:ext cx="1576080" cy="1068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0-2200 об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9"/>
          <p:cNvSpPr/>
          <p:nvPr/>
        </p:nvSpPr>
        <p:spPr>
          <a:xfrm>
            <a:off x="6227640" y="858960"/>
            <a:ext cx="2772000" cy="10666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жно быть указано конкретное 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оугольник 10"/>
          <p:cNvSpPr/>
          <p:nvPr/>
        </p:nvSpPr>
        <p:spPr>
          <a:xfrm>
            <a:off x="247680" y="2027160"/>
            <a:ext cx="151596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оммутатор ти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11"/>
          <p:cNvSpPr/>
          <p:nvPr/>
        </p:nvSpPr>
        <p:spPr>
          <a:xfrm>
            <a:off x="1908000" y="2027160"/>
            <a:ext cx="2448000" cy="1368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ол-во портов 10/100/1000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Ba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более 20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12"/>
          <p:cNvSpPr/>
          <p:nvPr/>
        </p:nvSpPr>
        <p:spPr>
          <a:xfrm>
            <a:off x="4508640" y="2027160"/>
            <a:ext cx="1576080" cy="1368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 ш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оугольник 13"/>
          <p:cNvSpPr/>
          <p:nvPr/>
        </p:nvSpPr>
        <p:spPr>
          <a:xfrm>
            <a:off x="6227640" y="2023920"/>
            <a:ext cx="2772000" cy="13687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только 22, 24, 26, 28, 32, 44, 4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 в заблуждение. Физически невозможно по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14"/>
          <p:cNvSpPr/>
          <p:nvPr/>
        </p:nvSpPr>
        <p:spPr>
          <a:xfrm>
            <a:off x="247680" y="3541680"/>
            <a:ext cx="1515960" cy="144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Бухта витой пары ти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15"/>
          <p:cNvSpPr/>
          <p:nvPr/>
        </p:nvSpPr>
        <p:spPr>
          <a:xfrm>
            <a:off x="1908000" y="3541680"/>
            <a:ext cx="2448000" cy="144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  <a:ea typeface="Calibri"/>
              </a:rPr>
              <a:t>Предельные значения возвратных потерь канала категории при частоте 10 МГц не более 23 д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16"/>
          <p:cNvSpPr/>
          <p:nvPr/>
        </p:nvSpPr>
        <p:spPr>
          <a:xfrm>
            <a:off x="4508640" y="3541680"/>
            <a:ext cx="1576080" cy="1447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 д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17"/>
          <p:cNvSpPr/>
          <p:nvPr/>
        </p:nvSpPr>
        <p:spPr>
          <a:xfrm>
            <a:off x="6227640" y="3538440"/>
            <a:ext cx="2772000" cy="14479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ответствии с ГОСТ Р 53245-2008 при частоте 10 МГц - 17 д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18"/>
          <p:cNvSpPr/>
          <p:nvPr/>
        </p:nvSpPr>
        <p:spPr>
          <a:xfrm>
            <a:off x="247680" y="5122800"/>
            <a:ext cx="151596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Батарея ти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оугольник 19"/>
          <p:cNvSpPr/>
          <p:nvPr/>
        </p:nvSpPr>
        <p:spPr>
          <a:xfrm>
            <a:off x="1908000" y="5122800"/>
            <a:ext cx="2448000" cy="93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Напря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2-5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20"/>
          <p:cNvSpPr/>
          <p:nvPr/>
        </p:nvSpPr>
        <p:spPr>
          <a:xfrm>
            <a:off x="4508640" y="5122800"/>
            <a:ext cx="1576080" cy="936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21"/>
          <p:cNvSpPr/>
          <p:nvPr/>
        </p:nvSpPr>
        <p:spPr>
          <a:xfrm>
            <a:off x="6227640" y="5119560"/>
            <a:ext cx="2772000" cy="9367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Не существует батарей CR2032 с напряжением 4 В. Ввод в забл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оугольник 22"/>
          <p:cNvSpPr/>
          <p:nvPr/>
        </p:nvSpPr>
        <p:spPr>
          <a:xfrm>
            <a:off x="6227640" y="861840"/>
            <a:ext cx="2772000" cy="106848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е противоречит инструкции -  «многоточие», «тире» - указание диапазона знач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23"/>
          <p:cNvSpPr/>
          <p:nvPr/>
        </p:nvSpPr>
        <p:spPr>
          <a:xfrm>
            <a:off x="6227640" y="2027160"/>
            <a:ext cx="2772000" cy="136836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конкретным значением показ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24"/>
          <p:cNvSpPr/>
          <p:nvPr/>
        </p:nvSpPr>
        <p:spPr>
          <a:xfrm>
            <a:off x="6227640" y="3541680"/>
            <a:ext cx="2772000" cy="144792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е противоречит ГОСТ Р 53245-2008, поскольку, значение «17 Дб» представлено в таблице с примерами предельных значений возвратных поте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оугольник 25"/>
          <p:cNvSpPr/>
          <p:nvPr/>
        </p:nvSpPr>
        <p:spPr>
          <a:xfrm>
            <a:off x="6227640" y="5113440"/>
            <a:ext cx="2772000" cy="93636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противоречит требованиям аукционн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26"/>
          <p:cNvSpPr/>
          <p:nvPr/>
        </p:nvSpPr>
        <p:spPr>
          <a:xfrm>
            <a:off x="611280" y="2303640"/>
            <a:ext cx="5256000" cy="2471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ь Заказчика не предоставил доказательств, свидетельствующих о наличии недостоверных сведений о товарах с характеристиками, указанными в заявке по п.60 «Зарядное устройство тип 1»,  п.94 «Батарея тип 2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18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АЗАТЕЛИ НА САЙТАХ ПРОИЗВОДИТЕЛЕЙ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120" y="82044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Участник закуп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заявке нужно указать показатели, значения которых становятся известными при испытании това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Заказ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 спорным позициям размещены на сайтах производителей тов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ы скриншоты сайтов производителей тов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УФА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и товаров и материалов являются стандартными и общеизве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 закупки может указать их в заявке, даже не имея в наличии това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Владимирского УФ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 от 21.06.2018 N Г 549-04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698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50560" y="20160"/>
            <a:ext cx="6985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АМОЖАЛОБА ПРИ РАСХОЖДЕНИИ ИЗВЕЩЕНИЯ И ДОКУМЕНТАЦИ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4420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ращении заказчика (исх. от 15.10.2018), являющимся основанием для проведения внеплановой проверки, указано следу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дминистрацией Исилькульского муниципального района Омской области при публикации извещения, аукционной документации о проведении электронного аукциона для закупки на поставку автомобильных шин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ущена техническая ошиб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 аукционной документации в разделе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именование и описание объекта закупки» в пункте 3 указано количество автомобильных ши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(четыре) шту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необходимо было указ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(восемь) штук, как в извещ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шу вас дать разрешение на аннулирование электронного аукциона или дать возможность внести изменения в аукционную документац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ой заявок участников закупки установлено, что из пяти допущенных заявок все заявки содержали предложение о поставке шин автомобильных по позиции 2, с показателями, соответствующими разделу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ъективное описание уполномоченным органом объекта закупки, не соответствующее потребностям заказчика, привело не только к нарушению требований ч.12 ст.21, п.1 ч.1 ст.33, п.1 ч.1 ст.64 44-ФЗ, но и к подаче заявок участников закупки, фактически также не соответствующих потребностям заказч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: Признать в действиях нарушение. Выдать пред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ское У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  03-08/81-2018 от 29.10.20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03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ЫЕ ОШИБКИ ПРИ СОСТАВЛЕНИИ ТЗ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7640" y="836280"/>
            <a:ext cx="91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казание не действующего ГОСТ (решение ФАС от 31.08.2016 по делу № К-1402/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схождение в разных частях документации (например, техзадание и проект контракта) (решение Омского УФАС от 19.04.2017 № 03-10.1/78-20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связный перечень товаров и ГОСТов (решение ФАС от 24.01.2017 по делу № К-62/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 указание конкретного ГОСТА (решение Краснодарского УФАС от 10 апреля 2017 г. № ЭА-466/20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определенность в отнесении показателей к диапазонным и конкретным (решение ФАС от 27.12.2016 по делу № К-2069/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е указания химического состава, показателей технологических процессов изготовления товаров, результаты испытаний, компонентного состава товаров, даже если они предусмотрены ГОСТ (решение ФАС от 06.09.2016 по делу № К-1435/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е указания характеристик товара, которые возможно получить только в ходе испытания товара (решение ФАС от 25.01.2017 по делу № К-63/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7840" y="0"/>
            <a:ext cx="61945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2f2f2"/>
                </a:solidFill>
                <a:latin typeface="Arial"/>
              </a:rPr>
              <a:t>УСТРАНЕНИЕ ОШИБКИ С ОБЕСПЕЧЕНИЕМ ПРИ ДЕМПИНГЕ 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144360" y="912960"/>
            <a:ext cx="5956560" cy="45396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М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низ 2"/>
          <p:cNvSpPr/>
          <p:nvPr/>
        </p:nvSpPr>
        <p:spPr>
          <a:xfrm>
            <a:off x="2859120" y="1455840"/>
            <a:ext cx="468360" cy="423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228840" y="13129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СНИЖЕНИЕ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Arial"/>
              </a:rPr>
              <a:t>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3240000" y="1986120"/>
            <a:ext cx="2860920" cy="55692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МЦ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 млн. руб. и ме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44360" y="1986120"/>
            <a:ext cx="2860920" cy="55692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МЦ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15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низ 5"/>
          <p:cNvSpPr/>
          <p:nvPr/>
        </p:nvSpPr>
        <p:spPr>
          <a:xfrm>
            <a:off x="1324080" y="266868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144360" y="3168720"/>
            <a:ext cx="4140360" cy="557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ИК х 1.5 (не менее аван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1 ст.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4437000" y="3003480"/>
            <a:ext cx="4527720" cy="72396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подтверждение добросов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 2 ст.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трелка вниз 15"/>
          <p:cNvSpPr/>
          <p:nvPr/>
        </p:nvSpPr>
        <p:spPr>
          <a:xfrm>
            <a:off x="3492360" y="266868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трелка вниз 16"/>
          <p:cNvSpPr/>
          <p:nvPr/>
        </p:nvSpPr>
        <p:spPr>
          <a:xfrm>
            <a:off x="5364000" y="2673360"/>
            <a:ext cx="50328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6"/>
          <p:cNvSpPr/>
          <p:nvPr/>
        </p:nvSpPr>
        <p:spPr>
          <a:xfrm>
            <a:off x="139680" y="1492200"/>
            <a:ext cx="422280" cy="405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9"/>
          <p:cNvSpPr/>
          <p:nvPr/>
        </p:nvSpPr>
        <p:spPr>
          <a:xfrm>
            <a:off x="195120" y="4321080"/>
            <a:ext cx="4140360" cy="55728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ОКТР и консультационные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 7 ст.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трелка вправо 7"/>
          <p:cNvSpPr/>
          <p:nvPr/>
        </p:nvSpPr>
        <p:spPr>
          <a:xfrm>
            <a:off x="4422600" y="4378320"/>
            <a:ext cx="495360" cy="41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1"/>
          <p:cNvSpPr/>
          <p:nvPr/>
        </p:nvSpPr>
        <p:spPr>
          <a:xfrm>
            <a:off x="5005440" y="4305240"/>
            <a:ext cx="3959280" cy="557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ые величины значимости критериев (цена = 10%) ч.8 ст.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2"/>
          <p:cNvSpPr/>
          <p:nvPr/>
        </p:nvSpPr>
        <p:spPr>
          <a:xfrm>
            <a:off x="114480" y="3836880"/>
            <a:ext cx="423720" cy="405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3"/>
          <p:cNvSpPr/>
          <p:nvPr/>
        </p:nvSpPr>
        <p:spPr>
          <a:xfrm>
            <a:off x="160200" y="5408640"/>
            <a:ext cx="4138920" cy="133344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вары, необходимого для нормального жизне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довольствие, средства для оказания скорой медицинской помощи, ЛС, топливо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 9 ст.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право 24"/>
          <p:cNvSpPr/>
          <p:nvPr/>
        </p:nvSpPr>
        <p:spPr>
          <a:xfrm>
            <a:off x="4437000" y="5686560"/>
            <a:ext cx="496800" cy="4125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5"/>
          <p:cNvSpPr/>
          <p:nvPr/>
        </p:nvSpPr>
        <p:spPr>
          <a:xfrm>
            <a:off x="5019840" y="5408640"/>
            <a:ext cx="3958920" cy="133344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ие ц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гарантийное письмо от производителя, документы, подтверждающие наличие товара, иные документы и расче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6"/>
          <p:cNvSpPr/>
          <p:nvPr/>
        </p:nvSpPr>
        <p:spPr>
          <a:xfrm>
            <a:off x="130320" y="4938840"/>
            <a:ext cx="422280" cy="406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4597560" y="3718080"/>
            <a:ext cx="44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  <a:ea typeface="Arial"/>
              </a:rPr>
              <a:t>ФЗ от 27.12.2018 № 502-Ф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  <a:ea typeface="Arial"/>
              </a:rPr>
              <a:t>Редакция ч. 2 ст. 37, ч. 3 ст. 83.2 закона №44-Ф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264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РАБОТ ГРАЖДАНАМИ РФ+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-14760" y="82044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азчик в ТЗ установил требования к техническим характеристикам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нитель должен иметь в ходе исполнения контракта в штате организации работников, имеющ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правку об отсутствии судимос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ую книжку установленного образца с действительным допуском для работы в детских учреждениях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оговор (полис) ДМС, действующий на территории РФ, за исключением случаев, если работодатель заключает с медицинской организацией договор о предоставлении платных медицинских услуг работнику, являющемуся иностранным гражданином или лицом без гражданства, и случаев, установленных федеральными законами или международными договорами РФ, - при заключении трудового договора с временно пребывающими в РФ иностранным гражданином или лицом без гражданст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е на работу или патент, за исключением случаев, установленных федеральными законами или международными договорами РФ, - при заключении трудового договора с временно пребывающими в РФ иностранным гражданином или лицом без граждан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азрешение на временное проживание в РФ - при заключении трудового договора с временно проживающими в РФ иностранным гражданином или лицом без гражданств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ид на жительство, - при заключении трудового договора с постоянно проживающими в РФ иностранным гражданином или лицом без гражданст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нитель обязан в 10-дневный срок, с момента подписания контракта, предоставить копии вышеуказанных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нитель обязан иметь униформу в соответствии с периодом уборки (летний или зимний) и указанием принадлежности к организации Исполн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3"/>
          <p:cNvSpPr/>
          <p:nvPr/>
        </p:nvSpPr>
        <p:spPr>
          <a:xfrm>
            <a:off x="-4680" y="630540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ымское УФАС 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07.2016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л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06/1472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10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icture 4"/>
          <p:cNvSpPr/>
          <p:nvPr/>
        </p:nvSpPr>
        <p:spPr>
          <a:xfrm>
            <a:off x="7867800" y="22320"/>
            <a:ext cx="12650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6193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РАБОТ ГРАЖДАНАМИ РФ+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7640" y="802800"/>
            <a:ext cx="9108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казанные требования установлены Заказчиком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ии с требованиями действующего законодатель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Ф, в частности с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ьей 351.1. Трудового кодекс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унктом 1.8 СанПиН 2.4.4.3155-12 №73 от 27.12.2013 «Санитарно-эпидемиологические требования к устройству, содержанию и организации работы стационарных организаций отдыха и оздоровления детей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ьей 10 ФЗ «Об обязательном медицинском страховании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астью 4 статьи 13 ФЗ «О правовом положении иностранных граждан в Российской Федераци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е к ношению фирменной одежды персоналом, находящимся на территории детских лагерей МДЦ «Артек», установлено Правилами внутреннего распорядка ФГБОУ МДЦ «Артек», соблюдение которых исполнителем услуг является требованием пункта 4.9. раздела 4 технического задания документации об Аукци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ымское УФАС 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07.2016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л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№06/1472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nodeType="clickEffect" fill="hold">
                      <p:stCondLst>
                        <p:cond delay="indefinite"/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4681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ЛИШНИЕ ТРЕБОВАНИЯ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4560" y="6922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У г.о.г.Буй «СМЗ» в техническом задании, являющемся составной частью аукционной документации на право выполн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 по противопаводковым мероприяти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казана необходим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я автомобиля-фургона на базе ГАЗ-5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ахтов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ротиворечит требованиям ч.3 ст.33, п.2 ч.1 ст.64 Федерального закона № 44-ФЗ,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лекло впоследствии заключение муниципального контракта с единственным поставщик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язи с признанием аукциона несостоявшим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указанным фактам постановлением УФАС России по Костромской области от 14.05.2018 и.о. директора учреждения привлечен к административной ответственности по ч.4.2 ст.7.30 КоАП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КУРА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endery.ru/?page_id=269&amp;news_id=20459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21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8" descr="http://toptyumen.ru/wp-content/uploads/2016/03/photo.jpg"/>
          <p:cNvPicPr/>
          <p:nvPr/>
        </p:nvPicPr>
        <p:blipFill>
          <a:blip r:embed="rId2"/>
          <a:stretch/>
        </p:blipFill>
        <p:spPr>
          <a:xfrm>
            <a:off x="5724360" y="6336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5761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ОБЛЕНИ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560" y="8938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Требовани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ересмотре в кассационном порядке судебных актов по делу о признании недействительными пункта решения и предписания антимонопольного орг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паривалось решение ФАС по делу N АМЗ-49/2016, возбужденному на основании поступивших из прокуратуры материалов - действия учреждения, управления и общества, выразившиеся в заключении соглашения об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ом дроблении на восемь государственных контрак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ой сделки по капитальному ремонту (перепланировке) помещений учреждения, в соответствии с разработанной обществ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ой проектно-сметной документ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вели к недопущению конкур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исание - о необходимос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исления в бюджет дох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енного в результате нарушения статьи 16 Закона о защите конкуренции в размере 1 077 755 рублей 90 копе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Решение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едаче дела в Судебную коллегию по экономическим спорам ВС РФ отказано, суд пришел к правильному выводу о наличии у антимонопольного органа правовых оснований для принятия оспоренных ненормативных актов с учетом доказанности создания подрядчиком, заказчиком и главным распорядителем бюджетных средст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ованного искусственного дроб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ой сделки на выполнение работ по капитальному ремонту (перепланировке) помещен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лях уклонения от соблюдения установленной законом конкурентной процеду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щения за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3"/>
          <p:cNvSpPr/>
          <p:nvPr/>
        </p:nvSpPr>
        <p:spPr>
          <a:xfrm>
            <a:off x="0" y="6165720"/>
            <a:ext cx="9144000" cy="4986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СУ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е ВС РФ от 05.07.2018 N 309-КГ18-8614 по делу N А34-4692/201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27" name="TextBox 5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78920" y="57240"/>
            <a:ext cx="67690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АЦИИ. МИНИМИЗАЦИЯ РИСКОВ «ДРОБЛЕНИЯ»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4560" y="83628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СНОВНОЙ РИСК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ч.1 ст. 7.29 КоАП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инятие решения о способе определения поставщика с нарушением требований, установленных законодательством о контрактной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должностных лиц - 30 тысяч рублей (ч.2 – 50 тыс. руб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РЕКОМЕНДАЦИИ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объекты (предмет догов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контраг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сроки и д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условия договора, спецификации (разные хозяйственные ц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 на весь объем существующий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ие необходимости (отсутствие конкуренции, запоздалое финансирование, непланируемая срочность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а не выше цены на аналогичные коти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66247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БЛЮДЕНИЕ ЗАКОНА БЕЗ НАРУШЕНИЯ ПРАВ УЗ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7560" y="78228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лоб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ъективность описания объекта зак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плановая провер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рме заявки заказчик предусмотрел лишние строки для за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ФА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д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лоба участника не касалась формы котировочной зая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одну заявку не отклонили за несоответствие форме котировочной заяв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нные в форме заявки сведения не повлияли на результаты заку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запрета требовать дополнительную информацию заключается в устранении искусственных барьеров для участия в закупке. В рассматриваемом случае подобных препятствий не возник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оугольник 3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 Верховного Суда РФ от 24.12.2018 по делу N А41-108439/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34" name="TextBox 5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480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ХОЖДЕНИЕ СВЕДЕНИЙ В ДОКУМЕНТАХ ЗАКУПКИ И РАЗЪЯСНЕНИ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-3600" y="9208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.2 ТЗ указано, что срок поставки в теч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 дн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омента заключения контра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п.3 Раздела 5 информационной карты аукционной документации сроки поставки товара с момента заключения контракт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 календарных дн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.4.1 проекта контракта указано, что срок поставки с момента заключения договора в течении 30 (тридцати)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ь Заказчика пояснил, что 19.12.2018 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 разъяс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й аукционной документации, в котором Заказчик указал, что срок поставки составляет 30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лоба обосн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исание не выдавать (не повлиял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оугольник 3"/>
          <p:cNvSpPr/>
          <p:nvPr/>
        </p:nvSpPr>
        <p:spPr>
          <a:xfrm>
            <a:off x="6480" y="6165720"/>
            <a:ext cx="9137520" cy="495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ПЕРМСКОГО У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zakupki.gov.ru/epz/controlresult/card/info.html?icrRevisionId=46422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39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684036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Е НЕОБЯЗАТЕЛЬНЫХ ДОКУМЕНТОВ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4560" y="820440"/>
            <a:ext cx="91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окументацией о закупке к поставке требуется средство защиты органов дыхания (респираторы фильтрующие) многоразового использования, соответствие требованиям ГОСТ 12.4.294-2015 по классу защиты и маркировке, комплект поставки, в том числ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тификат соответ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дтверждающий маркировку и класс защиты, класс защиты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дополнительные защитные показатели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индекс служит для обозначения возможности многоразового использования),  вид медицинского изделия 181520 (в соответствии с РУ), регистрационное удостове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письму Росстандарта № 16470-ОМ/3 от 03.11.2016 г., в настоящее время медицинские изделия в Российской Федерации не подлежат обязательному подтверждению соответствия в форме сертификации. На медицинское изделие  может быть выдан только сертификат в рамках добровольной системы сертифик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лоба обосн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оугольник 3"/>
          <p:cNvSpPr/>
          <p:nvPr/>
        </p:nvSpPr>
        <p:spPr>
          <a:xfrm>
            <a:off x="6480" y="6165720"/>
            <a:ext cx="9137520" cy="498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ПЕРМСКОГО У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olutions.fas.gov.ru/to/permskoe-ufas-rossii/10663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388880" y="0"/>
            <a:ext cx="469548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АЗЪЯСНЕНИЕМ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4560" y="691920"/>
            <a:ext cx="910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ехническом задании установлено треб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 обязательн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личии у предлагаемого аппарата искусственного кровообращения сертификата соответствия Госстандарта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твете на запрос о разъяснении положений Аукционной документации Заказчик указывает «Требование наличия сертификата счит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обязатель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иссия Управления приходит к выводу, что вышеуказанные разъяснения даны в нарушение ч. 5 ст. 65 Закон о контрактной системе, посколь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осят измен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Аукционную документацию и могу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одить в заблужд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ов заку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сУФАС, 24.06.2016 дело № 2-57-6332/77-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49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65516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ЛЬЗЯ ОТКЛОНЯТЬ ЗАЯВКУ, ЕСЛИ ПРОДУКЦИЯ ПРЕВЫШАЕТ ТРЕБОВАНИЯ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4560" y="692280"/>
            <a:ext cx="9109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в ТЗ (принт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отность используемых материалов, в диапазоне от 60 до 199 г/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я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отность используемых материалов, в диапазоне: 60 - 199 г/м2, в том числе, расширенный диапазон 60-220 г/м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траф членам комиссии (ч. 2 ст. 7.30 КоАП) - 6 000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3"/>
          <p:cNvSpPr/>
          <p:nvPr/>
        </p:nvSpPr>
        <p:spPr>
          <a:xfrm>
            <a:off x="6480" y="6165720"/>
            <a:ext cx="9137520" cy="35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ФА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05.12.20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2034/16/АК1192-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8675640" y="6105600"/>
            <a:ext cx="419040" cy="419040"/>
          </a:xfrm>
          <a:prstGeom prst="rect">
            <a:avLst/>
          </a:prstGeom>
          <a:ln w="0">
            <a:noFill/>
          </a:ln>
        </p:spPr>
      </p:pic>
      <p:sp>
        <p:nvSpPr>
          <p:cNvPr id="754" name="TextBox 7"/>
          <p:cNvSpPr/>
          <p:nvPr/>
        </p:nvSpPr>
        <p:spPr>
          <a:xfrm>
            <a:off x="8632800" y="6434280"/>
            <a:ext cx="50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44-Ф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12:22:26Z</dcterms:created>
  <dc:creator>Kuznetsov</dc:creator>
  <dc:description/>
  <dc:language>en-US</dc:language>
  <cp:lastModifiedBy>Иванов Александр</cp:lastModifiedBy>
  <cp:lastPrinted>2013-03-29T11:07:55Z</cp:lastPrinted>
  <dcterms:modified xsi:type="dcterms:W3CDTF">2019-03-03T15:08:01Z</dcterms:modified>
  <cp:revision>532</cp:revision>
  <dc:subject/>
  <dc:title>Обучающие материалы для государственных заказчиков</dc:title>
</cp:coreProperties>
</file>